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E66-088A-4985-8F41-222C6B58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31F-71E1-483E-A125-5EDDFBA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70A-819F-4808-9540-8E84553F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D93-15FE-4E21-B66E-196723C4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8D1-F950-4547-AD97-ACA83EB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946-3857-46DF-A51D-FE8B5A8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ED6-0D22-4ABD-9051-67FCE47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09B-F0A9-41A2-B0FB-6AFD784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DCF-1B40-41D0-8C8D-E07F85D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218-523B-41F3-A30D-99AA03D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655-AB91-4973-97EB-9C3AA8D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478-0B44-469A-8DEE-EDA1948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B24-60EC-40FC-A1A7-7EF6D4843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81532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80880"/>
            <a:ext cx="144756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8534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9436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21320" y="59727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248520"/>
            <a:ext cx="25146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918040"/>
            <a:ext cx="12193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943600"/>
            <a:ext cx="15238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 an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918040"/>
            <a:ext cx="2057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, Schema, &amp; 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500120" y="3633120"/>
            <a:ext cx="403884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4480" y="814320"/>
            <a:ext cx="14479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Dia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26240" y="5211000"/>
            <a:ext cx="914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98960" y="429588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99320" y="262008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15240" y="1896120"/>
            <a:ext cx="533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8960" y="345780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752480"/>
            <a:ext cx="350532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362320"/>
            <a:ext cx="350532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0040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76920"/>
            <a:ext cx="3505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655640"/>
            <a:ext cx="954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65564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655640"/>
            <a:ext cx="8780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237840" y="3543120"/>
            <a:ext cx="3810240" cy="6858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8480" y="3505320"/>
            <a:ext cx="3810240" cy="7617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914720" y="3467160"/>
            <a:ext cx="3810240" cy="838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867280" y="3429000"/>
            <a:ext cx="3810240" cy="9144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05000" y="3581280"/>
            <a:ext cx="3810240" cy="6094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752480"/>
            <a:ext cx="1067040" cy="403884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752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76720"/>
            <a:ext cx="1066680" cy="251460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bX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200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962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d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666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50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1981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124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886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572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80880"/>
            <a:ext cx="144792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371600"/>
            <a:ext cx="41911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ument-Orient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572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880"/>
            <a:ext cx="685800" cy="9907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572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380880"/>
            <a:ext cx="533160" cy="9144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380880"/>
            <a:ext cx="53316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9:09:32Z</dcterms:created>
  <dc:creator>bn</dc:creator>
  <dc:description/>
  <dc:language>en-US</dc:language>
  <cp:lastModifiedBy> </cp:lastModifiedBy>
  <dcterms:modified xsi:type="dcterms:W3CDTF">2007-08-02T14:37:32Z</dcterms:modified>
  <cp:revision>1</cp:revision>
  <dc:subject/>
  <dc:title>Slide 1</dc:title>
</cp:coreProperties>
</file>