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372-9404-40C2-ACB1-0370C646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8D8-C17F-4AEC-A0F4-E52E3657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2A5A-7044-4C76-BD74-C8BBF4C9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F5F-D7F7-4C45-A515-7D3B3235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005-706D-4D3F-B2BE-37C51F7B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A47-BE44-47A1-A46C-FD03C4FA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E2C-DDB1-4108-AC39-C0AC10CB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17B-1949-4B24-9C00-41FAE503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2E9-3150-41B8-87E8-3609C9C5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6E65-F974-4379-AD4E-2016B0B6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A79-C6AE-4506-BFBD-61885C45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320-3F44-48C5-99CD-23F58F14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7752-B4B6-4310-90FC-5FEB1E2F4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228600"/>
            <a:ext cx="8153280" cy="14479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380880"/>
            <a:ext cx="144756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867280"/>
            <a:ext cx="853452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59436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121320" y="597276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M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6248520"/>
            <a:ext cx="25146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ble Markup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5918040"/>
            <a:ext cx="12193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 Li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5943600"/>
            <a:ext cx="152388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 and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5918040"/>
            <a:ext cx="20574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, Schema, &amp; Va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1500120" y="3633120"/>
            <a:ext cx="4038840" cy="276480"/>
          </a:xfrm>
          <a:prstGeom prst="rect">
            <a:avLst/>
          </a:prstGeom>
          <a:solidFill>
            <a:srgbClr val="000080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ssage 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204480" y="814320"/>
            <a:ext cx="1447920" cy="276480"/>
          </a:xfrm>
          <a:prstGeom prst="rect">
            <a:avLst/>
          </a:prstGeom>
          <a:solidFill>
            <a:srgbClr val="000080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Dial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26240" y="5211000"/>
            <a:ext cx="9144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498960" y="4295880"/>
            <a:ext cx="7621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99320" y="2620080"/>
            <a:ext cx="76176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615240" y="1896120"/>
            <a:ext cx="5335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498960" y="3457800"/>
            <a:ext cx="7621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752480"/>
            <a:ext cx="3505320" cy="5335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2362320"/>
            <a:ext cx="3505320" cy="7617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200400"/>
            <a:ext cx="3505320" cy="7621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038480"/>
            <a:ext cx="3505320" cy="7621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4876920"/>
            <a:ext cx="3505320" cy="914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05920" y="1655640"/>
            <a:ext cx="6858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1655640"/>
            <a:ext cx="954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1655640"/>
            <a:ext cx="76176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1655640"/>
            <a:ext cx="6858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655640"/>
            <a:ext cx="87804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3237840" y="3543120"/>
            <a:ext cx="3810240" cy="6858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4038480" y="3505320"/>
            <a:ext cx="3810240" cy="76176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4914720" y="3467160"/>
            <a:ext cx="3810240" cy="8380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5867280" y="3429000"/>
            <a:ext cx="3810240" cy="9144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6705000" y="3581280"/>
            <a:ext cx="3810240" cy="6094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1752480"/>
            <a:ext cx="1067040" cy="4038840"/>
          </a:xfrm>
          <a:prstGeom prst="rect">
            <a:avLst/>
          </a:prstGeom>
          <a:solidFill>
            <a:srgbClr val="80808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1752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276720"/>
            <a:ext cx="1066680" cy="2514600"/>
          </a:xfrm>
          <a:prstGeom prst="rect">
            <a:avLst/>
          </a:prstGeom>
          <a:solidFill>
            <a:srgbClr val="80808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33526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bXM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20574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590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43434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32004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9528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24382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39625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nd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26668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00800" y="35053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t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4038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pic Ma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1981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3124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38862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45720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80880"/>
            <a:ext cx="144792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h &amp; Sci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380880"/>
            <a:ext cx="83808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S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380880"/>
            <a:ext cx="83808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sh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380880"/>
            <a:ext cx="83808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S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1371600"/>
            <a:ext cx="4191120" cy="276480"/>
          </a:xfrm>
          <a:prstGeom prst="rect">
            <a:avLst/>
          </a:prstGeom>
          <a:solidFill>
            <a:srgbClr val="000080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ument-Oriented 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4572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ncial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380880"/>
            <a:ext cx="685800" cy="99072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4572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380880"/>
            <a:ext cx="533160" cy="9144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7320" y="380880"/>
            <a:ext cx="533160" cy="53352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53280" y="838080"/>
            <a:ext cx="533520" cy="53352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19:09:32Z</dcterms:created>
  <dc:creator>bn</dc:creator>
  <dc:description/>
  <dc:language>en-US</dc:language>
  <cp:lastModifiedBy> </cp:lastModifiedBy>
  <dcterms:modified xsi:type="dcterms:W3CDTF">2007-08-02T14:37:32Z</dcterms:modified>
  <cp:revision>1</cp:revision>
  <dc:subject/>
  <dc:title>Slide 1</dc:title>
</cp:coreProperties>
</file>