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00B-CBB6-42A0-A8BF-9AD6249D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CDF-6B03-4D6C-9223-57DF18C0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ED8-B5A6-43EF-A7F5-AD200DE6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D2E-2C9E-4850-9583-1BF088F0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7D3-6A40-458E-9D49-A18B55D3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98FA-EEFE-4C9D-A735-74E02B6F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AC7-4073-4BD6-8F02-539506D0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B8D-BB8A-444F-BCCA-2E012A11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DC68-EC74-4ECC-95AD-2015D413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489-177F-44C7-95C1-EA484E27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7A5-51D5-4B53-A2E1-F844438D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0D32-796C-47C3-B64B-F70880C7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960B-A0B1-4478-A065-A032414B0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28600"/>
            <a:ext cx="8153280" cy="14479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380880"/>
            <a:ext cx="144756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867280"/>
            <a:ext cx="8534520" cy="762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5943600"/>
            <a:ext cx="8381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6200000">
            <a:off x="121320" y="597276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6248520"/>
            <a:ext cx="2514600" cy="307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ble Markup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5918040"/>
            <a:ext cx="12193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cument Li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943600"/>
            <a:ext cx="152388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 and 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5918040"/>
            <a:ext cx="20574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ition, Schema, &amp; 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-1500120" y="3633120"/>
            <a:ext cx="403884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ssage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04480" y="814320"/>
            <a:ext cx="144792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Dial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26240" y="5211000"/>
            <a:ext cx="9144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498960" y="4295880"/>
            <a:ext cx="7621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499320" y="2620080"/>
            <a:ext cx="76176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615240" y="1896120"/>
            <a:ext cx="5335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498960" y="3457800"/>
            <a:ext cx="76212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1752480"/>
            <a:ext cx="3505320" cy="5335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362320"/>
            <a:ext cx="3505320" cy="76176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200400"/>
            <a:ext cx="350532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4038480"/>
            <a:ext cx="3505320" cy="76212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4876920"/>
            <a:ext cx="3505320" cy="91440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05920" y="1655640"/>
            <a:ext cx="6858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1655640"/>
            <a:ext cx="9540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655640"/>
            <a:ext cx="76176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1655640"/>
            <a:ext cx="68580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655640"/>
            <a:ext cx="878040" cy="246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3237840" y="3543120"/>
            <a:ext cx="3810240" cy="6858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4038480" y="3505320"/>
            <a:ext cx="3810240" cy="76176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914720" y="3467160"/>
            <a:ext cx="3810240" cy="8380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5867280" y="3429000"/>
            <a:ext cx="3810240" cy="91440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6705000" y="3581280"/>
            <a:ext cx="3810240" cy="609480"/>
          </a:xfrm>
          <a:prstGeom prst="rect">
            <a:avLst/>
          </a:prstGeom>
          <a:solidFill>
            <a:srgbClr val="9696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1752480"/>
            <a:ext cx="1067040" cy="403884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3000" y="1752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276720"/>
            <a:ext cx="1066680" cy="2514600"/>
          </a:xfrm>
          <a:prstGeom prst="rect">
            <a:avLst/>
          </a:prstGeom>
          <a:solidFill>
            <a:srgbClr val="80808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33526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bX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2057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25909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343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32004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4952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62720" y="24382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M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39625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nd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26668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D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00800" y="350532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t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40384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pic M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1981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15200" y="312408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38862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45720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le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80880"/>
            <a:ext cx="144792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 &amp; Sc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sh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1120" y="380880"/>
            <a:ext cx="838080" cy="11430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4572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S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1371600"/>
            <a:ext cx="4191120" cy="276480"/>
          </a:xfrm>
          <a:prstGeom prst="rect">
            <a:avLst/>
          </a:prstGeom>
          <a:solidFill>
            <a:srgbClr val="000080">
              <a:alpha val="73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ument-Oriented 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81480" y="457200"/>
            <a:ext cx="121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nancial Serv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380880"/>
            <a:ext cx="685800" cy="9907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9400" y="457200"/>
            <a:ext cx="76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380880"/>
            <a:ext cx="533160" cy="91440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7320" y="380880"/>
            <a:ext cx="533160" cy="5335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838080"/>
            <a:ext cx="533520" cy="533520"/>
          </a:xfrm>
          <a:prstGeom prst="rect">
            <a:avLst/>
          </a:prstGeom>
          <a:solidFill>
            <a:srgbClr val="3366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1T19:09:32Z</dcterms:created>
  <dc:creator>bn</dc:creator>
  <dc:description/>
  <dc:language>en-US</dc:language>
  <cp:lastModifiedBy> </cp:lastModifiedBy>
  <dcterms:modified xsi:type="dcterms:W3CDTF">2007-08-02T14:37:32Z</dcterms:modified>
  <cp:revision>1</cp:revision>
  <dc:subject/>
  <dc:title>Slide 1</dc:title>
</cp:coreProperties>
</file>