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425A9-144F-47BB-BBA1-F6060BCEA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0E717-4D19-44DD-96E1-2A23B2DED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901F4-B8DB-4359-B021-FE28319D0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FA65B-CEC0-4FF6-9D8D-CC3271A7C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1D65A-52C2-416D-B2FC-7ACF75185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13891-368C-4803-8A31-A10A76F6A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F4DE2-916B-4E65-9707-31D11A530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E7A8F-5A04-41F1-B566-E7FC09A19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E83A7-46B9-4A07-A555-04249E3C9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70A15-CE62-40E2-AD9D-C8EB43CE7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39276-D41B-48D5-8BEF-777DB56A9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944E1-E9E8-4756-8A99-AA3EE6B01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0F6F7-C452-4E2E-A9D9-3F03E0A6EE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2120" y="228600"/>
            <a:ext cx="8153280" cy="144792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105520" y="380880"/>
            <a:ext cx="1447560" cy="1143000"/>
          </a:xfrm>
          <a:prstGeom prst="rect">
            <a:avLst/>
          </a:prstGeom>
          <a:solidFill>
            <a:srgbClr val="3366ff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80880" y="5867280"/>
            <a:ext cx="8534520" cy="7621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4920" y="5943600"/>
            <a:ext cx="8381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rot="16200000">
            <a:off x="121320" y="5972760"/>
            <a:ext cx="9144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XML Standar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00400" y="6248520"/>
            <a:ext cx="2514600" cy="3070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tensible Markup Langu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523880" y="5918040"/>
            <a:ext cx="1219320" cy="246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cument Link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657600" y="5943600"/>
            <a:ext cx="1523880" cy="246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yle and Present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943600" y="5918040"/>
            <a:ext cx="2057400" cy="246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ition, Schema, &amp; Valid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rot="16200000">
            <a:off x="-1500120" y="3633120"/>
            <a:ext cx="4038840" cy="276480"/>
          </a:xfrm>
          <a:prstGeom prst="rect">
            <a:avLst/>
          </a:prstGeom>
          <a:solidFill>
            <a:srgbClr val="000080">
              <a:alpha val="73000"/>
            </a:srgbClr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ssage Specif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rot="16200000">
            <a:off x="-204480" y="814320"/>
            <a:ext cx="1447920" cy="276480"/>
          </a:xfrm>
          <a:prstGeom prst="rect">
            <a:avLst/>
          </a:prstGeom>
          <a:solidFill>
            <a:srgbClr val="000080">
              <a:alpha val="73000"/>
            </a:srgbClr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ertical Dial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26240" y="5211000"/>
            <a:ext cx="914400" cy="246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essag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498960" y="4295880"/>
            <a:ext cx="762120" cy="246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rot="16200000">
            <a:off x="499320" y="2620080"/>
            <a:ext cx="761760" cy="246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orkflo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rot="16200000">
            <a:off x="615240" y="1896120"/>
            <a:ext cx="533520" cy="246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16200000">
            <a:off x="498960" y="3457800"/>
            <a:ext cx="762120" cy="246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gist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066680" y="1752480"/>
            <a:ext cx="3505320" cy="53352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066680" y="2362320"/>
            <a:ext cx="3505320" cy="76176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66680" y="3200400"/>
            <a:ext cx="3505320" cy="76212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066680" y="4038480"/>
            <a:ext cx="3505320" cy="76212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066680" y="4876920"/>
            <a:ext cx="3505320" cy="91440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8305920" y="1655640"/>
            <a:ext cx="685800" cy="246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315200" y="1655640"/>
            <a:ext cx="954000" cy="246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1655640"/>
            <a:ext cx="761760" cy="246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nt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00600" y="1655640"/>
            <a:ext cx="685800" cy="246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655640"/>
            <a:ext cx="878040" cy="246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mantic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rot="5400000">
            <a:off x="3237840" y="3543120"/>
            <a:ext cx="3810240" cy="685800"/>
          </a:xfrm>
          <a:prstGeom prst="rect">
            <a:avLst/>
          </a:prstGeom>
          <a:solidFill>
            <a:srgbClr val="96969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rot="5400000">
            <a:off x="4038480" y="3505320"/>
            <a:ext cx="3810240" cy="761760"/>
          </a:xfrm>
          <a:prstGeom prst="rect">
            <a:avLst/>
          </a:prstGeom>
          <a:solidFill>
            <a:srgbClr val="96969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rot="5400000">
            <a:off x="4914720" y="3467160"/>
            <a:ext cx="3810240" cy="838080"/>
          </a:xfrm>
          <a:prstGeom prst="rect">
            <a:avLst/>
          </a:prstGeom>
          <a:solidFill>
            <a:srgbClr val="96969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rot="5400000">
            <a:off x="5867280" y="3429000"/>
            <a:ext cx="3810240" cy="914400"/>
          </a:xfrm>
          <a:prstGeom prst="rect">
            <a:avLst/>
          </a:prstGeom>
          <a:solidFill>
            <a:srgbClr val="96969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rot="5400000">
            <a:off x="6705000" y="3581280"/>
            <a:ext cx="3810240" cy="609480"/>
          </a:xfrm>
          <a:prstGeom prst="rect">
            <a:avLst/>
          </a:prstGeom>
          <a:solidFill>
            <a:srgbClr val="96969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066680" y="1752480"/>
            <a:ext cx="1067040" cy="4038840"/>
          </a:xfrm>
          <a:prstGeom prst="rect">
            <a:avLst/>
          </a:prstGeom>
          <a:solidFill>
            <a:srgbClr val="808080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143000" y="175248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eb Servic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286000" y="3276720"/>
            <a:ext cx="1066680" cy="2514600"/>
          </a:xfrm>
          <a:prstGeom prst="rect">
            <a:avLst/>
          </a:prstGeom>
          <a:solidFill>
            <a:srgbClr val="808080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514600" y="335268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bXML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®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724280" y="205740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ncryp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724280" y="259092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uthentic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724280" y="434340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c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724280" y="320040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uthoriz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724280" y="495288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R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62720" y="243828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M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562720" y="396252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yndic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400800" y="266688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D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400800" y="350532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ntolog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400800" y="403848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pic Map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238880" y="198108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ultimedi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315200" y="312408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e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315200" y="388620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315200" y="457200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eleco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838080" y="380880"/>
            <a:ext cx="1447920" cy="1143000"/>
          </a:xfrm>
          <a:prstGeom prst="rect">
            <a:avLst/>
          </a:prstGeom>
          <a:solidFill>
            <a:srgbClr val="3366ff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990720" y="457200"/>
            <a:ext cx="1066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th &amp; Scien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362320" y="380880"/>
            <a:ext cx="838080" cy="1143000"/>
          </a:xfrm>
          <a:prstGeom prst="rect">
            <a:avLst/>
          </a:prstGeom>
          <a:solidFill>
            <a:srgbClr val="3366ff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62320" y="457200"/>
            <a:ext cx="1066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 S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76720" y="380880"/>
            <a:ext cx="838080" cy="1143000"/>
          </a:xfrm>
          <a:prstGeom prst="rect">
            <a:avLst/>
          </a:prstGeom>
          <a:solidFill>
            <a:srgbClr val="3366ff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276720" y="457200"/>
            <a:ext cx="1066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sh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191120" y="380880"/>
            <a:ext cx="838080" cy="1143000"/>
          </a:xfrm>
          <a:prstGeom prst="rect">
            <a:avLst/>
          </a:prstGeom>
          <a:solidFill>
            <a:srgbClr val="3366ff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191120" y="457200"/>
            <a:ext cx="1066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 S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800600" y="1371600"/>
            <a:ext cx="4191120" cy="276480"/>
          </a:xfrm>
          <a:prstGeom prst="rect">
            <a:avLst/>
          </a:prstGeom>
          <a:solidFill>
            <a:srgbClr val="000080">
              <a:alpha val="73000"/>
            </a:srgbClr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ocument-Oriented Specif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181480" y="457200"/>
            <a:ext cx="1219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inancial Servic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629400" y="380880"/>
            <a:ext cx="685800" cy="990720"/>
          </a:xfrm>
          <a:prstGeom prst="rect">
            <a:avLst/>
          </a:prstGeom>
          <a:solidFill>
            <a:srgbClr val="3366ff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629400" y="457200"/>
            <a:ext cx="762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ustom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91520" y="380880"/>
            <a:ext cx="533160" cy="914400"/>
          </a:xfrm>
          <a:prstGeom prst="rect">
            <a:avLst/>
          </a:prstGeom>
          <a:solidFill>
            <a:srgbClr val="3366ff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8077320" y="380880"/>
            <a:ext cx="533160" cy="533520"/>
          </a:xfrm>
          <a:prstGeom prst="rect">
            <a:avLst/>
          </a:prstGeom>
          <a:solidFill>
            <a:srgbClr val="3366ff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153280" y="838080"/>
            <a:ext cx="533520" cy="533520"/>
          </a:xfrm>
          <a:prstGeom prst="rect">
            <a:avLst/>
          </a:prstGeom>
          <a:solidFill>
            <a:srgbClr val="3366ff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31T19:09:32Z</dcterms:created>
  <dc:creator>bn</dc:creator>
  <dc:description/>
  <dc:language>en-US</dc:language>
  <cp:lastModifiedBy> </cp:lastModifiedBy>
  <dcterms:modified xsi:type="dcterms:W3CDTF">2007-08-02T14:37:32Z</dcterms:modified>
  <cp:revision>1</cp:revision>
  <dc:subject/>
  <dc:title>Slide 1</dc:title>
</cp:coreProperties>
</file>