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12.png" ContentType="image/png"/>
  <Override PartName="/ppt/media/image17.wmf" ContentType="image/x-wmf"/>
  <Override PartName="/ppt/media/image16.wmf" ContentType="image/x-wmf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8.wmf" ContentType="image/x-wmf"/>
  <Override PartName="/ppt/media/image5.jpeg" ContentType="image/jpeg"/>
  <Override PartName="/ppt/media/image9.wmf" ContentType="image/x-wmf"/>
  <Override PartName="/ppt/media/image14.png" ContentType="image/png"/>
  <Override PartName="/ppt/media/image6.png" ContentType="image/png"/>
  <Override PartName="/ppt/media/image7.png" ContentType="image/png"/>
  <Override PartName="/ppt/media/image1.jpeg" ContentType="image/jpeg"/>
  <Override PartName="/ppt/media/image1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6A0D-0485-47CF-B2D2-F99496288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Book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EBA2-FFA5-463D-9D9D-9ED1279AA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EDF9-01A6-4B90-A65B-7A79433ABEEB}" type="slidenum">
              <a:rPr b="0" lang="en-US" sz="1200" spc="-1" strike="noStrike">
                <a:solidFill>
                  <a:srgbClr val="000066"/>
                </a:solidFill>
                <a:latin typeface="Book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Book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3497-569F-4830-BA17-C5A325BC1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AD41-9044-42F0-9C9F-0630CD93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733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ED45-4408-42F2-AAB3-653849749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52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844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52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844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B37B-6F0D-4FF0-87DC-2B65C6F87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1F8A-C53B-4FED-8461-7982A0D8E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541D-C391-44DC-A543-E56B9604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2CFC-C0F3-4A82-9ACF-1DEDDAC3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6953-1DBC-468A-AFCA-8D37957C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5D77-D1DB-4332-8209-0E6B9433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7315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7DEA-389C-4F79-81B1-3079025C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9476-D05C-4D5A-B98D-33B49D40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B394-C3B8-478D-B6D1-A02F6D01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733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6917B-CC8E-4BE4-B83A-84A4EFC4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10CC-FD5D-47A1-8D57-CB81D980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4E9D1-2132-4D87-B2D2-AD2275FC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733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743C-D085-42D5-A59F-301AF053E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852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844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852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844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B561-B94B-481D-A57B-426FA277A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F2533-6A69-4EE8-9F65-7CD3BCE1C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F00BC-61B0-4381-A497-5BF7CC5C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CE5FF-0756-46C4-BE04-600E44F1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FFD62-7EC4-4DE8-B115-D302637C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29F11-09F7-4B77-BC61-983BC08A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250F-8337-482E-A01C-BC3FBD28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7315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116B0-5CFF-4649-87CD-FC14F60A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99573-5B1E-4603-B027-649B7432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4733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18E8E-D665-48FD-93E9-57A6B3F1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4E2E4-FDAC-40A4-BE57-90ED72E6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462D7-2D4C-45F2-8CAA-3035288C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4733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C11F5-A897-49A2-9D45-38D198F6F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852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6844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1852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6844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E2F1A-42AD-4AFA-B823-6FE8C14E3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82A2-480E-4B79-BEA5-6EFD80B8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FF35-1658-4F03-8ECC-A8EFD1F7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7315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5F27-4B22-4197-B413-BAD9AA5C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DB16-5869-4F3E-9AC1-9A39212E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733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B9B0-BCC2-4273-A2EA-C3C02875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265C-3F8A-4CBA-8E4B-EC5369BD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IIA_p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745C-C533-4E36-A4B4-BC72E84F2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Book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PageLeft"/>
          <p:cNvPicPr/>
          <p:nvPr/>
        </p:nvPicPr>
        <p:blipFill>
          <a:blip r:embed="rId2"/>
          <a:stretch/>
        </p:blipFill>
        <p:spPr>
          <a:xfrm>
            <a:off x="380880" y="304920"/>
            <a:ext cx="1017720" cy="3646440"/>
          </a:xfrm>
          <a:prstGeom prst="rect">
            <a:avLst/>
          </a:prstGeom>
          <a:ln w="0">
            <a:noFill/>
          </a:ln>
        </p:spPr>
      </p:pic>
      <p:sp>
        <p:nvSpPr>
          <p:cNvPr id="43" name="Line 3"/>
          <p:cNvSpPr/>
          <p:nvPr/>
        </p:nvSpPr>
        <p:spPr>
          <a:xfrm>
            <a:off x="380880" y="304920"/>
            <a:ext cx="0" cy="601956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pic>
        <p:nvPicPr>
          <p:cNvPr id="44" name="Picture 4" descr="PageLogo"/>
          <p:cNvPicPr/>
          <p:nvPr/>
        </p:nvPicPr>
        <p:blipFill>
          <a:blip r:embed="rId3"/>
          <a:stretch/>
        </p:blipFill>
        <p:spPr>
          <a:xfrm>
            <a:off x="7589880" y="301680"/>
            <a:ext cx="1096920" cy="765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ED03-27AA-4E81-BBBE-0E909D923E7D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50" name="Line 10"/>
          <p:cNvSpPr/>
          <p:nvPr/>
        </p:nvSpPr>
        <p:spPr>
          <a:xfrm>
            <a:off x="380880" y="304920"/>
            <a:ext cx="7315200" cy="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pic>
        <p:nvPicPr>
          <p:cNvPr id="51" name="Picture 11" descr="PageLowerRight"/>
          <p:cNvPicPr/>
          <p:nvPr/>
        </p:nvPicPr>
        <p:blipFill>
          <a:blip r:embed="rId4"/>
          <a:stretch/>
        </p:blipFill>
        <p:spPr>
          <a:xfrm>
            <a:off x="7924680" y="5791320"/>
            <a:ext cx="53676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overBlueBox"/>
          <p:cNvPicPr/>
          <p:nvPr/>
        </p:nvPicPr>
        <p:blipFill>
          <a:blip r:embed="rId2"/>
          <a:stretch/>
        </p:blipFill>
        <p:spPr>
          <a:xfrm>
            <a:off x="2182680" y="4213080"/>
            <a:ext cx="4778640" cy="1806840"/>
          </a:xfrm>
          <a:prstGeom prst="rect">
            <a:avLst/>
          </a:prstGeom>
          <a:ln w="0">
            <a:noFill/>
          </a:ln>
        </p:spPr>
      </p:pic>
      <p:sp>
        <p:nvSpPr>
          <p:cNvPr id="89" name="Line 6"/>
          <p:cNvSpPr/>
          <p:nvPr/>
        </p:nvSpPr>
        <p:spPr>
          <a:xfrm>
            <a:off x="380880" y="304920"/>
            <a:ext cx="8153640" cy="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90" name="Line 7"/>
          <p:cNvSpPr/>
          <p:nvPr/>
        </p:nvSpPr>
        <p:spPr>
          <a:xfrm>
            <a:off x="380880" y="304920"/>
            <a:ext cx="0" cy="586728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pic>
        <p:nvPicPr>
          <p:cNvPr id="91" name="Picture 8" descr="CoverLeft"/>
          <p:cNvPicPr/>
          <p:nvPr/>
        </p:nvPicPr>
        <p:blipFill>
          <a:blip r:embed="rId3"/>
          <a:stretch/>
        </p:blipFill>
        <p:spPr>
          <a:xfrm>
            <a:off x="407880" y="384120"/>
            <a:ext cx="1268640" cy="4492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CoverLogo"/>
          <p:cNvPicPr/>
          <p:nvPr/>
        </p:nvPicPr>
        <p:blipFill>
          <a:blip r:embed="rId4"/>
          <a:stretch/>
        </p:blipFill>
        <p:spPr>
          <a:xfrm>
            <a:off x="3581280" y="380880"/>
            <a:ext cx="1874880" cy="13035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BEE8-87DC-4A99-84FE-A2BED15848F9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Book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1" descr="SIIA_mainpp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0" y="3352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ast Series - Global Ed Tech Mark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cus on the United Kingdo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ctober 21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2"/>
          <p:cNvSpPr/>
          <p:nvPr/>
        </p:nvSpPr>
        <p:spPr>
          <a:xfrm>
            <a:off x="1600200" y="3200400"/>
            <a:ext cx="5943600" cy="0"/>
          </a:xfrm>
          <a:prstGeom prst="line">
            <a:avLst/>
          </a:prstGeom>
          <a:ln w="255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Fro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599840"/>
            <a:ext cx="8229600" cy="61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he Fronter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candinavian, founded in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135 employees, 10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cquired by Pearson lat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he Fronter Learning 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굴림"/>
              </a:rPr>
              <a:t>Learning platform for K12 and Higher 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굴림"/>
              </a:rPr>
              <a:t>8 million users, 10 thousand sch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굴림"/>
              </a:rPr>
              <a:t>1/3 of all Local Authorities in 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굴림"/>
              </a:rPr>
              <a:t>2500 school in Lo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굴림"/>
              </a:rPr>
              <a:t>Roger Lar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굴림"/>
              </a:rPr>
              <a:t>Founder and C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6324480" y="1676520"/>
            <a:ext cx="1212840" cy="8031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show_image"/>
          <p:cNvPicPr/>
          <p:nvPr/>
        </p:nvPicPr>
        <p:blipFill>
          <a:blip r:embed="rId2"/>
          <a:stretch/>
        </p:blipFill>
        <p:spPr>
          <a:xfrm>
            <a:off x="6477120" y="3124080"/>
            <a:ext cx="1030320" cy="1633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"/>
          <p:cNvPicPr/>
          <p:nvPr/>
        </p:nvPicPr>
        <p:blipFill>
          <a:blip r:embed="rId3"/>
          <a:stretch/>
        </p:blipFill>
        <p:spPr>
          <a:xfrm>
            <a:off x="6172200" y="5257800"/>
            <a:ext cx="1727280" cy="68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3152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rated Panel  Discu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hough there will be a dedic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&amp; A session at the close of the webcast you may submit questions at any time using the chat feature to the right of your scre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One for the Pane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UK landscape for education technology products and servic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6858000" y="4038480"/>
            <a:ext cx="143820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Two for the Pane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e UK purchas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work for edu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 product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s and how c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 companies gain entrée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6019920" y="2286000"/>
            <a:ext cx="259056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Th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government spending trends and what technologies are gaining traction in UK school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6477120" y="4267080"/>
            <a:ext cx="198108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F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technologies are seeing a decline in usage and what opportunities should ed tech companies focus on in the current and coming perio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5867280" y="5143680"/>
            <a:ext cx="268128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BB47-DAAE-4B5D-8B6F-7707A4D64B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61760" y="14479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om the Audi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3429000" y="1219320"/>
            <a:ext cx="205740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6DAC-E0F4-4BDD-8221-9098B9AA28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761760" y="15235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osing Announc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d to the post webcast survey to tell us what you thought of today’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S. Ed Tech Industry Market Watch: PreK-12 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 the Global Working Group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s by conference call on second Monday of the month at 3 pm east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B854-1BED-43FE-B2AB-EA403FC024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761760" y="14479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ank you for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joining us today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3048120" y="1295280"/>
            <a:ext cx="24508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960480"/>
            <a:ext cx="73152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ome and Annou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of Moderators and Paneli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el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5943600" y="4343400"/>
            <a:ext cx="20858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94AC-7F69-4057-9649-A5F09B0D33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1082520"/>
            <a:ext cx="6885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lcome &amp; Introd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ouncements:  Tasiyiwa Maponde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ebcast session is being recorded. The audio file, additional information and slide presentations will be available on the SIIA Education Division home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t questions via the “Chat” fe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.S. Ed Tech Industry Market Watch: Pre-K-12 Surv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 Tech Business Forum, Nov 30 – Dec 1 in New Y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or Listening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ak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6960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a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mi Jett, General Manager, netTrek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Samuelson, President Global Schools, Pea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e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y Barker, Director, B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ger Larsen, Founder and CEO, Fro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the focus on the U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IA’s Global Initia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trategies and Strategic Partnerships Working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2009 SIIA Ed Tech Business Fo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me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rowing Glob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ing today’s spe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47CF-6BA4-4DFC-8C34-A55AE342C6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vid Samuel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ident, Global Schools, Pea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IA Education Board Member since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-Chair, SIIA Ed Board Global Strategies and Strategic Partnerships Work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520560" y="1359000"/>
            <a:ext cx="8012160" cy="54547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arson Glob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4720-EBFB-40B0-AA17-08F32DFABA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nded in 199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to:  ….go do something good for k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er in the delivery of digital K-12 educational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to market with a standards-based educational search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ng over 10 million students and educators world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in Asia, Middle East, India, and coming to UK at BE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nT_logo_-_color.jpeg"/>
          <p:cNvPicPr/>
          <p:nvPr/>
        </p:nvPicPr>
        <p:blipFill>
          <a:blip r:embed="rId1"/>
          <a:stretch/>
        </p:blipFill>
        <p:spPr>
          <a:xfrm>
            <a:off x="1676520" y="762120"/>
            <a:ext cx="472428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CFBE-E369-4D4C-9705-69AD97CF2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itish Educational Suppliers Asso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rade association for the U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ducation supply se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aim to unite and inform – and improve the business of our members. We aim to create a level playing field for commercial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5943600" y="2895480"/>
            <a:ext cx="20858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6T17:45:52Z</dcterms:created>
  <dc:creator>Kevin Custer</dc:creator>
  <dc:description/>
  <dc:language>en-US</dc:language>
  <cp:lastModifiedBy>Karen Billings</cp:lastModifiedBy>
  <cp:lastPrinted>2001-11-28T04:39:16Z</cp:lastPrinted>
  <dcterms:modified xsi:type="dcterms:W3CDTF">2009-10-20T21:31:02Z</dcterms:modified>
  <cp:revision>153</cp:revision>
  <dc:subject/>
  <dc:title>No Slide Title</dc:title>
</cp:coreProperties>
</file>