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12.png" ContentType="image/png"/>
  <Override PartName="/ppt/media/image17.wmf" ContentType="image/x-wmf"/>
  <Override PartName="/ppt/media/image16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CD47-8C0C-4167-9D30-BF45FB06C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68FC-A650-4C0D-9893-D6C74F745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D2B9-3852-49BB-A59C-11E500D4A311}" type="slidenum">
              <a:rPr b="0" lang="en-US" sz="1200" spc="-1" strike="noStrike">
                <a:solidFill>
                  <a:srgbClr val="000066"/>
                </a:solidFill>
                <a:latin typeface="Book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41E0-156A-47CB-876F-C24BB93B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23C4-9E2C-45EB-AE45-AA88757E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7EFD-69E5-42CE-96DD-966792035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52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844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52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844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3F51-D392-410F-A018-DC3CC537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26DA-7F86-4BDE-A8ED-4EAE3503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86CA-B615-4DA8-8645-79986E5C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310B-CB5D-4626-AA26-7ED77057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58D1-6650-4354-9574-C8F4A14E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6C3E-1C89-4C31-9D90-5324C4B8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DBD2-DE60-497F-A6A6-4BBA495F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0545-B08E-49A4-98D7-1D979588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7588-0E38-4967-BD22-C56D0DC4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7E60-79FC-4C87-A7BB-26E05573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62E1-E05A-4ED2-8BD6-03D8909F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7D4A-6263-4EAB-95BE-81F5C4B9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1D27-7908-43E3-99C3-319DE2CA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852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844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852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844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8972-2240-4B37-97C1-CAB1B110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560A3-263E-4CDA-9174-4CE9FDAE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777E5-6750-49BF-ABA8-8E993778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34102-5AF5-4CBC-AA42-2AC41218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9C47F-72D9-4E25-9712-1EB0047E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69527-B13B-4179-A7B5-E5086769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D9A3-6BCD-4982-B521-41FB7A75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CB894-BD76-4042-B323-04E947ED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54298-4E40-44C7-8289-408F35B2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6594C-D656-44B3-9D2F-FB6B2D20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D2A5A-3A5A-4EBD-BAE6-59E14FB9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BD5F6-D510-4078-A23A-068327E6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407B6-9769-4584-9140-067B05E5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852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6844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852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6844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BBE5A-2986-4CB5-80D2-20BCBFD1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2756-FF03-4515-A9E2-5391191E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BD11-5242-498B-9516-5B91B18B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B59F-4B50-4741-933D-2D7BF2F2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C5AB-8F1F-449D-A012-1AF31EDB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8852-EFAF-4A3E-9D92-7ACD4C45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CD25-184C-4CEB-B9A2-817C5980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IIA_p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096B-06F7-48CB-AB77-6287238E6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ageLeft"/>
          <p:cNvPicPr/>
          <p:nvPr/>
        </p:nvPicPr>
        <p:blipFill>
          <a:blip r:embed="rId2"/>
          <a:stretch/>
        </p:blipFill>
        <p:spPr>
          <a:xfrm>
            <a:off x="380880" y="304920"/>
            <a:ext cx="1017720" cy="3646440"/>
          </a:xfrm>
          <a:prstGeom prst="rect">
            <a:avLst/>
          </a:prstGeom>
          <a:ln w="0">
            <a:noFill/>
          </a:ln>
        </p:spPr>
      </p:pic>
      <p:sp>
        <p:nvSpPr>
          <p:cNvPr id="43" name="Line 3"/>
          <p:cNvSpPr/>
          <p:nvPr/>
        </p:nvSpPr>
        <p:spPr>
          <a:xfrm>
            <a:off x="380880" y="304920"/>
            <a:ext cx="0" cy="601956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pic>
        <p:nvPicPr>
          <p:cNvPr id="44" name="Picture 4" descr="PageLogo"/>
          <p:cNvPicPr/>
          <p:nvPr/>
        </p:nvPicPr>
        <p:blipFill>
          <a:blip r:embed="rId3"/>
          <a:stretch/>
        </p:blipFill>
        <p:spPr>
          <a:xfrm>
            <a:off x="7589880" y="301680"/>
            <a:ext cx="1096920" cy="765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9E87-46D6-4A56-9C05-C21D6E08FB00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380880" y="304920"/>
            <a:ext cx="731520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pic>
        <p:nvPicPr>
          <p:cNvPr id="51" name="Picture 11" descr="PageLowerRight"/>
          <p:cNvPicPr/>
          <p:nvPr/>
        </p:nvPicPr>
        <p:blipFill>
          <a:blip r:embed="rId4"/>
          <a:stretch/>
        </p:blipFill>
        <p:spPr>
          <a:xfrm>
            <a:off x="7924680" y="5791320"/>
            <a:ext cx="53676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overBlueBox"/>
          <p:cNvPicPr/>
          <p:nvPr/>
        </p:nvPicPr>
        <p:blipFill>
          <a:blip r:embed="rId2"/>
          <a:stretch/>
        </p:blipFill>
        <p:spPr>
          <a:xfrm>
            <a:off x="2182680" y="4213080"/>
            <a:ext cx="4778640" cy="1806840"/>
          </a:xfrm>
          <a:prstGeom prst="rect">
            <a:avLst/>
          </a:prstGeom>
          <a:ln w="0">
            <a:noFill/>
          </a:ln>
        </p:spPr>
      </p:pic>
      <p:sp>
        <p:nvSpPr>
          <p:cNvPr id="89" name="Line 6"/>
          <p:cNvSpPr/>
          <p:nvPr/>
        </p:nvSpPr>
        <p:spPr>
          <a:xfrm>
            <a:off x="380880" y="304920"/>
            <a:ext cx="815364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90" name="Line 7"/>
          <p:cNvSpPr/>
          <p:nvPr/>
        </p:nvSpPr>
        <p:spPr>
          <a:xfrm>
            <a:off x="380880" y="304920"/>
            <a:ext cx="0" cy="5867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pic>
        <p:nvPicPr>
          <p:cNvPr id="91" name="Picture 8" descr="CoverLeft"/>
          <p:cNvPicPr/>
          <p:nvPr/>
        </p:nvPicPr>
        <p:blipFill>
          <a:blip r:embed="rId3"/>
          <a:stretch/>
        </p:blipFill>
        <p:spPr>
          <a:xfrm>
            <a:off x="407880" y="384120"/>
            <a:ext cx="1268640" cy="4492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CoverLogo"/>
          <p:cNvPicPr/>
          <p:nvPr/>
        </p:nvPicPr>
        <p:blipFill>
          <a:blip r:embed="rId4"/>
          <a:stretch/>
        </p:blipFill>
        <p:spPr>
          <a:xfrm>
            <a:off x="3581280" y="380880"/>
            <a:ext cx="1874880" cy="13035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9632-1D4F-43F9-B2BC-13EADCEFB768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1" descr="SIIA_main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ast Series - Global Ed Tech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on the United Kingdo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tober 21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1600200" y="3200400"/>
            <a:ext cx="5943600" cy="0"/>
          </a:xfrm>
          <a:prstGeom prst="line">
            <a:avLst/>
          </a:prstGeom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ro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61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Fronter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candinavian, founded in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135 employees, 10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cquired by Pearson lat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Fronter Learning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Learning platform for K12 and Higher 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8 million users, 10 thousand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1/3 of all Local Authorities in 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2500 school in 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Roger Lar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Founder and 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6324480" y="1676520"/>
            <a:ext cx="1212840" cy="803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show_image"/>
          <p:cNvPicPr/>
          <p:nvPr/>
        </p:nvPicPr>
        <p:blipFill>
          <a:blip r:embed="rId2"/>
          <a:stretch/>
        </p:blipFill>
        <p:spPr>
          <a:xfrm>
            <a:off x="6477120" y="3124080"/>
            <a:ext cx="1030320" cy="1633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3"/>
          <a:stretch/>
        </p:blipFill>
        <p:spPr>
          <a:xfrm>
            <a:off x="6172200" y="5257800"/>
            <a:ext cx="1727280" cy="68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rated Panel  Discu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there will be a dedic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&amp; A session at the close of the webcast you may submit questions at any time using the chat feature to the right of your scre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One for the Pane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UK landscape for education technology products and servic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6858000" y="4038480"/>
            <a:ext cx="14382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Two for the Pane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UK purcha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work for edu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product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 and how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companies gain entré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6019920" y="2286000"/>
            <a:ext cx="259056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government spending trends and what technologies are gaining traction in UK schoo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6477120" y="4267080"/>
            <a:ext cx="198108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F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echnologies are seeing a decline in usage and what opportunities should ed tech companies focus on in the current and coming perio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5867280" y="5143680"/>
            <a:ext cx="268128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C91E-4A15-4D28-B670-A742B3D06B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61760" y="14479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m the Aud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20574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C3F0-8BE7-40F3-95D0-144305F6C5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osing Announ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 to the post webcast survey to tell us what you thought of today’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Ed Tech Industry Market Watch: PreK-12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 the Global Working Grou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s by conference call on second Monday of the month at 3 pm eas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CB09-E798-40AC-AB0A-2525B6C716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61760" y="14479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ank you fo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joining us toda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2450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6048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and Annou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of Moderators and Paneli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el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5943600" y="4343400"/>
            <a:ext cx="20858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3507-8FBD-422B-9272-6BF86D352B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082520"/>
            <a:ext cx="6885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come &amp; Introd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ouncements:  Tasiyiwa Mapond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ebcast session is being recorded. The audio file, additional information and slide presentations will be available on the SIIA Education Division home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 questions via the “Chat” fe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Ed Tech Industry Market Watch: Pre-K-12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 Tech Business Forum, Nov 30 – Dec 1 in New Y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or Listening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a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mi Jett, General Manager, netTrek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Samuelson, President Global Schools, Pea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e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y Barker, Director, B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er Larsen, Founder and CEO, Fro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he focus on the U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IA’s Global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trategies and Strategic Partnerships Work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2009 SIIA Ed Tech Business 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owing Glob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ing today’s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7053-A50D-44AB-B906-8317205BF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Samuel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, Global Schools, Pea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IA Education Board Member sinc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-Chair, SIIA Ed Board Global Strategies and Strategic Partnerships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20560" y="1359000"/>
            <a:ext cx="8012160" cy="54547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rson Glob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7906-D358-46CE-AD4D-96FF60E516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ed in 199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to:  ….go do something good for k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er in the delivery of digital K-12 educational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o market with a standards-based educational search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ng over 10 million students and educator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in Asia, Middle East, India, and coming to UK at B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nT_logo_-_color.jpeg"/>
          <p:cNvPicPr/>
          <p:nvPr/>
        </p:nvPicPr>
        <p:blipFill>
          <a:blip r:embed="rId1"/>
          <a:stretch/>
        </p:blipFill>
        <p:spPr>
          <a:xfrm>
            <a:off x="1676520" y="762120"/>
            <a:ext cx="472428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6213-7F14-430D-B884-78DFCF889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itish Educational Suppliers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ade association for the U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ucation supply s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im to unite and inform – and improve the business of our members. We aim to create a level playing field for commercial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20858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17:45:52Z</dcterms:created>
  <dc:creator>Kevin Custer</dc:creator>
  <dc:description/>
  <dc:language>en-US</dc:language>
  <cp:lastModifiedBy>Karen Billings</cp:lastModifiedBy>
  <cp:lastPrinted>2001-11-28T04:39:16Z</cp:lastPrinted>
  <dcterms:modified xsi:type="dcterms:W3CDTF">2009-10-20T21:31:02Z</dcterms:modified>
  <cp:revision>153</cp:revision>
  <dc:subject/>
  <dc:title>No Slide Title</dc:title>
</cp:coreProperties>
</file>