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2.png" ContentType="image/png"/>
  <Override PartName="/ppt/media/image17.wmf" ContentType="image/x-wmf"/>
  <Override PartName="/ppt/media/image16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AF6C-9B18-4210-A122-C3AC10056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5AC0-52AA-45D3-A278-9FB365AF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1092-9D70-45C8-BD0B-25A950D743F4}" type="slidenum">
              <a:rPr b="0" lang="en-US" sz="1200" spc="-1" strike="noStrike">
                <a:solidFill>
                  <a:srgbClr val="000066"/>
                </a:solidFill>
                <a:latin typeface="Book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41E-3D62-43B9-AA7E-38BF9F1E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E1D-B210-4BD7-9D75-BBBA2BE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BCE-35E8-4A53-98A5-24C45CC2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374-271A-4620-BB9E-FE9759CE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8580-FF8E-4BE0-9FF2-DF090AB7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83FD-5597-422D-AFBF-2840E433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453F-D894-48F8-97AE-C274646E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EEF3-86D9-4B0C-99A6-F20E944C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D3C4-862A-40F5-BB6C-0802FF14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3C18-63EE-49C0-84BC-71E27B17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260D-9FE6-4986-83B7-C3B9D5D1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A68-4F16-42AA-8137-04F89D88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B006-243A-4CF9-8F16-5C4A5964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6ACE-EC29-408A-AB4C-A0CA8867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D978-6D10-49F9-9B2C-826EC18F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EF69-4058-40CF-A622-5FA98B82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84D8-EA49-41C5-9DA4-EF67067C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4010-B386-46FB-9D00-32D318E4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5BFB-BAC5-4A47-BCF8-CDC80B4E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0EB4-E936-4A68-868C-A2C6EB59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BDDF-B2E6-4A9A-AA5E-44032F02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3CE4-126A-4CE1-B844-C5707177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2B9-51B8-4B2A-94A8-99E30645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D506-3CF4-486B-8B6C-276AB4DD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F2C2-BE94-40AC-8E9B-97DE0F5E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A2D9-1F50-4B39-AD19-316EDEF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6F17-98E2-4F2A-A626-28BD2613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A3BF-3CAE-4E66-A5DF-58096B05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1C9D-EFAA-46E0-A0B1-2A1F80A3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88377-5CAC-4791-A494-8BF1A796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680-5BD4-436D-BEED-76DBF8EA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EAA-2FDC-4E14-B350-A2777ABD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2B5-57CD-459A-8A83-D20AED0D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450-AFA9-4E88-BE72-ADC4BA3D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E6D-80DE-479C-9D99-E7FAF832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75F-184D-4C96-B7C8-6FB7736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4AEA-4E49-4C46-8E86-70A0B3A82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ageLeft"/>
          <p:cNvPicPr/>
          <p:nvPr/>
        </p:nvPicPr>
        <p:blipFill>
          <a:blip r:embed="rId2"/>
          <a:stretch/>
        </p:blipFill>
        <p:spPr>
          <a:xfrm>
            <a:off x="380880" y="304920"/>
            <a:ext cx="1017720" cy="3646440"/>
          </a:xfrm>
          <a:prstGeom prst="rect">
            <a:avLst/>
          </a:prstGeom>
          <a:ln w="0">
            <a:noFill/>
          </a:ln>
        </p:spPr>
      </p:pic>
      <p:sp>
        <p:nvSpPr>
          <p:cNvPr id="43" name="Line 3"/>
          <p:cNvSpPr/>
          <p:nvPr/>
        </p:nvSpPr>
        <p:spPr>
          <a:xfrm>
            <a:off x="380880" y="304920"/>
            <a:ext cx="0" cy="601956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44" name="Picture 4" descr="PageLogo"/>
          <p:cNvPicPr/>
          <p:nvPr/>
        </p:nvPicPr>
        <p:blipFill>
          <a:blip r:embed="rId3"/>
          <a:stretch/>
        </p:blipFill>
        <p:spPr>
          <a:xfrm>
            <a:off x="7589880" y="301680"/>
            <a:ext cx="1096920" cy="76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C6DA-46A0-405F-919B-9123A7EBE29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380880" y="304920"/>
            <a:ext cx="73152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51" name="Picture 11" descr="PageLowerRight"/>
          <p:cNvPicPr/>
          <p:nvPr/>
        </p:nvPicPr>
        <p:blipFill>
          <a:blip r:embed="rId4"/>
          <a:stretch/>
        </p:blipFill>
        <p:spPr>
          <a:xfrm>
            <a:off x="7924680" y="5791320"/>
            <a:ext cx="5367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overBlueBox"/>
          <p:cNvPicPr/>
          <p:nvPr/>
        </p:nvPicPr>
        <p:blipFill>
          <a:blip r:embed="rId2"/>
          <a:stretch/>
        </p:blipFill>
        <p:spPr>
          <a:xfrm>
            <a:off x="2182680" y="4213080"/>
            <a:ext cx="4778640" cy="180684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>
            <a:off x="380880" y="304920"/>
            <a:ext cx="815364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380880" y="304920"/>
            <a:ext cx="0" cy="5867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91" name="Picture 8" descr="CoverLeft"/>
          <p:cNvPicPr/>
          <p:nvPr/>
        </p:nvPicPr>
        <p:blipFill>
          <a:blip r:embed="rId3"/>
          <a:stretch/>
        </p:blipFill>
        <p:spPr>
          <a:xfrm>
            <a:off x="407880" y="384120"/>
            <a:ext cx="1268640" cy="449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overLogo"/>
          <p:cNvPicPr/>
          <p:nvPr/>
        </p:nvPicPr>
        <p:blipFill>
          <a:blip r:embed="rId4"/>
          <a:stretch/>
        </p:blipFill>
        <p:spPr>
          <a:xfrm>
            <a:off x="3581280" y="380880"/>
            <a:ext cx="1874880" cy="130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A523-6448-4193-9212-F8C5929FD0D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ast Series - Global Ed Tech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on the United Kingd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2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ro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candinavian, founded i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35 employees, 10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cquired by Pearson lat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Learning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Learning platform for K12 and Higher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8 million users, 10 thousand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1/3 of all Local Authorities in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2500 school in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Roger Lar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Founder and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1212840" cy="80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show_image"/>
          <p:cNvPicPr/>
          <p:nvPr/>
        </p:nvPicPr>
        <p:blipFill>
          <a:blip r:embed="rId2"/>
          <a:stretch/>
        </p:blipFill>
        <p:spPr>
          <a:xfrm>
            <a:off x="6477120" y="3124080"/>
            <a:ext cx="1030320" cy="1633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1727280" cy="68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rated Panel 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re will be a ded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 session at the close of the webcast you may submit questions at any time using the chat feature to the right of your scr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ne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UK landscape for education technology products and servic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6858000" y="4038480"/>
            <a:ext cx="143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wo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K purcha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work for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roduc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nd how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ompanies gain entré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5905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overnment spending trends and what technologies are gaining traction in UK schoo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981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echnologies are seeing a decline in usage and what opportunities should ed tech companies focus on in the current and coming peri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867280" y="5143680"/>
            <a:ext cx="2681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5644-8691-47BF-837F-8B0A356F1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the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057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029E-DA3C-4B11-B7FE-7047E720B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ing Annou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the post webcast survey to tell us what you thought of today’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d Tech Industry Market Watch: PreK-12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he Global Working Gro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by conference call on second Monday of the month at 3 pm eas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4C90-44D8-4D83-8ADE-5A5312450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ing us to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45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604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and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Moderators and Pane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5158-5282-44F3-82C2-BC7CDFC49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082520"/>
            <a:ext cx="6885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&amp; Intro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:  Tasiyiwa Mapond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bcast session is being recorded. The audio file, additional information and slide presentations will be available on the SIIA Education Division hom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questions via the “Chat”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d Tech Industry Market Watch: Pre-K-12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Tech Business Forum, Nov 30 – Dec 1 in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Listening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i Jett, General Manager, netTr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Samuelson, President Global Schools, Pea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Barker, Director, B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Larsen, Founder and CEO, Fro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focus on the U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’s Global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trategies and Strategic Partnerships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9 SIIA Ed Tech Busines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wing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oday’s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D0C5-9889-4395-AA90-1C881E8A4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Samue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, Global Schools, Pe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 Education Board Member sinc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Chair, SIIA Ed Board Global Strategies and Strategic Partnerships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20560" y="1359000"/>
            <a:ext cx="8012160" cy="5454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so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C122-E4DB-4B07-B4D4-AB8F67BC4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 ….go do something good for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 in the delivery of digital K-12 education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o market with a standards-based educational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over 10 million students and educator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in Asia, Middle East, India, and coming to UK at 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nT_logo_-_color.jpeg"/>
          <p:cNvPicPr/>
          <p:nvPr/>
        </p:nvPicPr>
        <p:blipFill>
          <a:blip r:embed="rId1"/>
          <a:stretch/>
        </p:blipFill>
        <p:spPr>
          <a:xfrm>
            <a:off x="1676520" y="762120"/>
            <a:ext cx="4724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477E-5FF5-4831-BED6-3C12ACB99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tish Educational Suppliers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ade association for the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supply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im to unite and inform – and improve the business of our members. We aim to create a level playing field for commercia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7:45:52Z</dcterms:created>
  <dc:creator>Kevin Custer</dc:creator>
  <dc:description/>
  <dc:language>en-US</dc:language>
  <cp:lastModifiedBy>Karen Billings</cp:lastModifiedBy>
  <cp:lastPrinted>2001-11-28T04:39:16Z</cp:lastPrinted>
  <dcterms:modified xsi:type="dcterms:W3CDTF">2009-10-20T21:31:02Z</dcterms:modified>
  <cp:revision>153</cp:revision>
  <dc:subject/>
  <dc:title>No Slide Title</dc:title>
</cp:coreProperties>
</file>