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3992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3992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2560" y="43992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5080" y="22096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7880" y="22096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3992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5080" y="43992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7880" y="43992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762120"/>
            <a:ext cx="82296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3992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2560" y="43992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3992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IIA_p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2280" y="63244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fisd_logo"/>
          <p:cNvPicPr/>
          <p:nvPr/>
        </p:nvPicPr>
        <p:blipFill>
          <a:blip r:embed="rId3"/>
          <a:stretch/>
        </p:blipFill>
        <p:spPr>
          <a:xfrm>
            <a:off x="0" y="0"/>
            <a:ext cx="866880" cy="500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7"/>
          <p:cNvSpPr/>
          <p:nvPr/>
        </p:nvSpPr>
        <p:spPr>
          <a:xfrm>
            <a:off x="8610480" y="6553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E89F-EF6C-4FAE-AB9F-A0C600897A26}" type="slidenum">
              <a:rPr b="0" lang="en-US" sz="1200" spc="-1" strike="noStrike">
                <a:solidFill>
                  <a:srgbClr val="0000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Overvie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vin, Managing Dir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bjective:   A credential to improve and recognize the level of skills, knowledge and general competency of people within our indust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inancial Information Associat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FIA) certification is intended to reflect a professional who has been in the industry for 1-3 yea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nefits to Employ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tter qualified and knowledgeable staf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acilitates staff develop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iring and promotional deci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nefits to Candid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ifferentiates candid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ramework for development of skills and knowled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ncourages better understanding of other job fun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rriculum and Examination have been develop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n areas of exa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dustry Issues and Tr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has contracted with Kryterion to provide testing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st scheduling done via Kryterion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sting will be done at local testing centers glob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ctored test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rly Adopter” phase soft-launched in Apr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blic announcement last we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rking with Training Organiz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/Commen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95280" y="4038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v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1 202 789 44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davin@siia.n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Overvie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vin, Managing Dir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2010 FISD Schedu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anuar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bruary 1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Issue Brief &amp; Networking Recep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hosted by CME Group)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4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Member Happy Hour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8-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bai: FISD MEA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22-2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msterdam: FISD Europe (Hosted by NYSE Euronex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15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ydney Local Meeting (Hosted by S&amp;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1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kyo Local Meeting (Hosted by Thomson Re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IMD/IRD Tokyo Information Summit on April 2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2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ngapore Local Meeting (Hosted By Singapore Exchang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Index Forum (Hosted by NASDAQ OM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nextra Webcast – “Liquidity &amp; Latency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2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:  FISD Local Meeting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2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ão Paulo:  FISD Local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2010 Schedule (Continue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7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Issue Brief &amp; Networking Reception (Hosted by B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24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General Meeting  (Hosted by Thomson Re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ptember 20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General Meeting &amp; Networking Rece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ptember 29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 Issue Brief &amp; Networking Reception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: FISD Local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2-1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ng Kong:  Asia Pacific Financial Information Conference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vember 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icago: Member Happy Hour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Issue Brief &amp; Holiday Party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16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General Meeting &amp; Holiday Par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Communication Tool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nthly Newsle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ekly Event Announc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ar in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SD.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test schedule for working groups and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ber-posted press releases and white pap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 Data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tely redesigned in 200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Working Group Activiti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2296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siness Issues 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PPS – Business Issues Policy and Practice Stand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Practice Recommendations for Audit, Unit-of-Count, Derive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ice Level &amp; Communications Working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Practice Recommendations (BPRs) address Content Providers’ product management and communication practi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cks Content Providers’ adherence to BP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rst ever “Outstanding Data Provider” award to NASDAQ OMX in 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Anti-Piracy Grou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se Studies, Best Practices, and Examples of Data Piracy and Data Mis-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urities Processing Automation Agen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ational Standards Organization (ISO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mber of Standards Coordinating Committ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adow Groups allow members to have representation in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Entity Identification (IBEI) – Working Group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ational Security Identification Number (ISIN) – Working Group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Model Working Group - Joint activity with FIX Protocol L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med to utilize Data Model from MDD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ract Instrument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end Instrument Model to include ABS/MBS/CDO, C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2010 FISD Schedu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anuar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bruary 1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Issue Brief &amp; Networking Recep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hosted by CME Group)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4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Member Happy Hour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8-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bai: FISD MEA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22-2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msterdam: FISD Europe (Hosted by NYSE Euronex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15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ydney Local Meeting (Hosted by S&amp;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1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kyo Local Meeting (Hosted by Thomson Re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IMD/IRD Tokyo Information Summit on April 2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2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ngapore Local Meeting (Hosted By Singapore Exchang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Index Forum (Hosted by NASDAQ OM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nextra Webcast – “Liquidity &amp; Latency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2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:  FISD Local Meeting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2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ão Paulo:  FISD Local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vernment Affai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ference Data Utilities – Proposals to create Gov’t-sponsored ut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.S.: Financial Services Bill includes creation of “Office of Financial Research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urope: ECB propos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FID Joint Working group - Real-time Market Transparenc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SR reviewing pre- and post-trade transparency iss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emplating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datory consolidation of post-trad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rtifying publishers of real-time transparency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ducing time for reporting tra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Launch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inancial Information Associate Cred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bjective:   A credential to improve and recognize the level of skills, knowledge and general competency of people within our indust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inancial Information Associat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FIA) certification is intended to reflect a professional who has been in the industry for 1-3 yea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nefits to Employ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tter qualified and knowledgeable staf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acilitates staff develop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iring and promotional deci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nefits to Candid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ifferentiates candid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ramework for development of skills and knowled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ncourages better understanding of other job fun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rriculum and Examination have been develop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n areas of exa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dustry Issues and Tr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has contracted with Kryterion to provide testing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st scheduling done via Kryterion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sting will be done at local testing centers glob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ctored test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rly Adopter” phase soft-launched in Apr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blic announcement last we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rking with Training Organiz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/Commen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4038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v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1 202 789 44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davin@siia.n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2010 Schedule (Continue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7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Issue Brief &amp; Networking Reception (Hosted by B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24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General Meeting  (Hosted by Thomson Re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ptember 20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General Meeting &amp; Networking Rece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ptember 29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 Issue Brief &amp; Networking Reception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: FISD Local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2-1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ng Kong:  Asia Pacific Financial Information Conference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vember 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icago: Member Happy Hour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Issue Brief &amp; Holiday Party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16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General Meeting &amp; Holiday Par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Communication Tool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nthly Newsle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ekly Event Announc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ar in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SD.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test schedule for working groups and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ber-posted press releases and white pap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 Data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tely redesigned in 200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Working Group Activiti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2296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siness Issues 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PPS – Business Issues Policy and Practice Stand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Practice Recommendations for Audit, Unit-of-Count, Derive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ice Level &amp; Communications Working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Practice Recommendations (BPRs) address Content Providers’ product management and communication practi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cks Content Providers’ adherence to BP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rst ever “Outstanding Data Provider” award to NASDAQ OMX in 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Anti-Piracy Grou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se Studies, Best Practices, and Examples of Data Piracy and Data Mis-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urities Processing Automation Agen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ational Standards Organization (ISO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mber of Standards Coordinating Committ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adow Groups allow members to have representation in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Entity Identification (IBEI) – Working Group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ational Security Identification Number (ISIN) – Working Group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Model Working Group - Joint activity with FIX Protocol L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med to utilize Data Model from MDD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ract Instrument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end Instrument Model to include ABS/MBS/CDO, C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vernment Affai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ference Data Utilities – Proposals to create Gov’t-sponsored ut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.S.: Financial Services Bill includes creation of “Office of Financial Research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urope: ECB propos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FID Joint Working group - Real-time Market Transparenc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SR reviewing pre- and post-trade transparency iss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emplating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datory consolidation of post-trad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rtifying publishers of real-time transparency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ducing time for reporting tra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Launch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inancial Information Associate Cred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21:37:37Z</dcterms:created>
  <dc:creator> </dc:creator>
  <dc:description/>
  <dc:language>en-US</dc:language>
  <cp:lastModifiedBy> </cp:lastModifiedBy>
  <dcterms:modified xsi:type="dcterms:W3CDTF">2010-06-04T21:37:45Z</dcterms:modified>
  <cp:revision>1</cp:revision>
  <dc:subject/>
  <dc:title>FISD Overview</dc:title>
</cp:coreProperties>
</file>