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</p:sldIdLst>
  <p:sldSz cx="9144000" cy="6858000"/>
  <p:notesSz cx="7315200" cy="9601200"/>
</p:presentation>
</file>

<file path=ppt/commentAuthors.xml><?xml version="1.0" encoding="utf-8"?>
<p:cmAuthorLst xmlns:p="http://schemas.openxmlformats.org/presentationml/2006/main">
  <p:cmAuthor id="0" name="Daniel Rehak" initials="DR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18.xml><?xml version="1.0" encoding="utf-8"?>
<p:cmLst xmlns:p="http://schemas.openxmlformats.org/presentationml/2006/main">
  <p:cm authorId="0" dt="2011-12-19T09:50:06.821000000" idx="1">
    <p:pos x="10" y="10"/>
    <p:text>New slide -- we've had problems in some ADL outreach with people wanting to go to the LR as a destination and couldn't do a publication without having the end user site to refer to.  Trying to be very explicit that it's not end user facing.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dt" idx="58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390B-FF13-4EBD-85A6-542E510B185A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move the slide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ftr" idx="59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 type="sldNum" idx="60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C583-8CA5-4CC6-95D8-BBED54E43AC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1DB2-AF78-486B-828F-A65408B7FE5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40 minutes for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20 minutes for Q&amp;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Mimi and Tasiyiwa build framework and send to pan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We will build the sl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ach panelist will address all of the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Karen can provide info on copy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rilby will mention trade mission to SG at ICT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lug global series work in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Duriya Aziz: VP Educational Publis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Log in at 8:45 E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Karen will open the c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Karen: Intro Mimi Jett *provide 2-3 sentence bio to Ka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Mimi will intro each panelist with 2-3 sentence bi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Mimi will pose the questions to e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B will NOT address govt trends and spend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xpect 3-4 minutes on each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After Q&amp;A we will close with some announcements-talk about Global working group, future webinar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tay on line for post mor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end speaker release, bio, specific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Give website addresses for upcoming conferences, other research s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C63A-7DBA-44A3-8F09-683563C2BAD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F205-33E2-4EAA-8E0E-F0D9993CD65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621F-4CE1-4BB1-9CAC-5F847FD5937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40B7-4BA5-4700-B10B-BF81DCFC03B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8884-BB95-4C2F-8A94-EA1D85697AC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A12C-913B-4F82-AE59-2CCD0FEF1B0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A18F-87F5-406B-940F-A7EB38BFA72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BA9F-5D5F-4BB0-9620-62F39D8B803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6A08-920D-441F-86DB-9E42CC8F53F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CA46-0416-4DC8-8916-F6EFDC2B973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on slide from last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ipt:  to remind you of the SIIA vision K-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7CF9-CF91-4792-8B40-9CBC49F523C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2A1A-C487-4346-8066-EAA29F18725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2486-EA64-49AC-8A80-4E371541F4E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8C49-FF35-4E95-9717-35F02D76EBE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1D80-8466-466A-A33E-87F84F0B156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E0E4-7EAC-4F3D-B4BB-98A9A180EF3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C286-A3B8-40CD-B651-5E3949F3F8D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C0F3-D7BE-4BD5-9080-0A3DB1DA465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2EB6-097F-4307-9CC6-6BE63C53D02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EE78-1E52-46F1-9848-6707616A05E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7DBE-5022-44EB-8D16-F6E49F6ECE6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on slide from last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ipt:  to remind you of the SIIA vision K-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51E8-01A0-4BC0-9E29-AD72535BD61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BA5F-3E7D-4809-AFE0-38B739418C0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B6B0-D47B-473D-BB24-62A5D117CC9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4D99-AE98-4CA0-AD0F-3934D2F4A99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59A9-06FD-42FA-ADB7-CE10B7E8D7E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on slide from last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ipt:  to remind you of the SIIA vision K-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51BE-94D5-492D-B858-4F33DF569F5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06F4-2584-4722-B825-FF5753FB43D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EE35-C31B-4CA7-89BD-D794E877842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FD8C-7BD8-465C-956C-1CE53266B38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3999-D274-432C-BF88-BB20EFACDB5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34DC-28A3-4CA8-A0BC-34758D56E84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6C0E-0C14-404B-9AD6-63692C24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4D9A-81F6-42AE-85FF-787604AB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0E81B1-6AEC-422D-B0A6-191A3DB4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63F99-D647-4799-A87D-9CECC064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FF53A-3B31-40F8-A413-408C3DCA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9B33F-83B6-4C38-B81F-B1222337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9A45EF-491F-404D-B932-94ECC0E2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0628EA-B0C4-436C-A9D6-01794B73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72547-6014-4D0A-9C05-5E057839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307EF-4BA9-4F24-B974-4E8EC4CE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92B87C-D826-4A12-B3A0-AA112042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41BAFB-B3C3-4412-8005-4088DA1C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63F8-30B9-43DF-AAEE-B0A8247B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B094FA-8B62-47C2-AFAA-D956227B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3489E3-BF83-4BC8-B27D-5C42A00C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023BBF-F222-4531-8B26-7FD22DBD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6CDF0A-2C85-4C9A-A4E3-F0C0AE0D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CE410-813A-425D-BA41-929B8790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E3D160-8257-4B6F-A89D-1E5F8FFA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461B79-9EE5-4660-BB92-D035F8A9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554EBF-FA73-4C3F-9D16-A4E1E224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A7AAF7-CCE0-483E-A05D-53975D63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91B687-266E-4ADC-B374-A0879400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662-9C8A-4744-92A4-960B70AE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D4EF22-D484-47CC-8939-7F6919C3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4F5D69-87B9-4690-BB38-2DF16495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920EF6-BDDE-409B-B1AA-D92F9B89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58A37F-A2E7-40C1-892F-3657020C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4BAA89-A4D4-4B96-9CE3-DB0C00EC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1B4CE1-0068-41A3-8658-68293631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8F0C84-5833-45A2-A688-C7229F4E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E17E1B-E9B8-4EDB-AA3E-9F8B9387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A56E66-6A5F-4F8E-A5A6-84EE45DD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F1E305-B8E6-4A53-BB47-299F97B2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023850-EA22-447D-916F-043D8881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34E084-70FC-4D0A-BE2D-E7D79569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C131D7-80FF-44A0-B510-AEF3671A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20D6C4-D829-49CA-A56B-5FFA17DE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7F912B-BEE5-413B-943B-8F35439E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B9A501-0A43-4E51-91F5-CD02E883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135EF1-645B-4D47-9858-0952E743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7FDE62-AA2C-4A48-BADF-D4798FC7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CFD301-1484-4DFA-AF09-A6555262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F19996-966B-4F20-A74F-F58CDD52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CF38B2-D5C6-48F4-8842-69B79FD6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F097FE-FEFD-4419-9727-AC786633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0A86A4-15FA-4AC2-BF1F-B2EDD753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49B12-37DF-4FD0-BC74-A9465257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0C07C7-CE69-46DB-BFD7-E506C793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F3169A-FA54-4A7C-BC2E-D752D77D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2AA116-C624-4CB0-920F-B3424290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9A58930-D181-48FD-96B5-3036A975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C44366C-C556-430C-BC2F-126F43E1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04AE45-E4E1-49A3-9D43-FA635455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96225C-9C22-45CD-B191-0C3EBEAC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6AF2BA-149C-4D04-A50E-F377E725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06748F2-96D3-4FE1-A0BF-4EDDEF98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516EB3A-EC7D-4B4B-94E8-BAFD19B5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339E603-BDAB-4D04-9EBB-F4BCF9BF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BD1F7C-2FEE-496D-8C9B-25615776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4501237-D211-488B-8205-48E2E31B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977393-D058-4F14-961A-0477D1A2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91E34E-F071-4C16-AC12-EF8CD5C8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8B11C9-09C9-4609-9587-81AB6D2C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27A8AB-7D45-4507-9214-65E50021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653E88-3D5E-4563-9CDF-E987BA06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03E2AB-AEE3-401A-AF53-87286E04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DB7A9F-A356-4F63-8344-9E7F8BD8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6CC08A-39C0-482B-BCDB-8B7F2657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B50C3C-07D4-49A7-B686-3FD09D73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35D3D3-E449-4D15-B5D0-42582ED9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B54036-C0DF-481A-A093-41120EDD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F2ABCD-ABD1-4A05-9357-1380F8AA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5DD2CA-A185-4FF7-A101-B51B2965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5A9161-192E-4C9F-B052-F5F95CF6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68C5CF-93D9-4689-9C04-3EE35DE7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AA682D-09A6-48A1-B501-4ACD5D8A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96648F-D8C9-4FC9-A7BB-5DE341B6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E7C862-FC06-4C70-9F6C-29DE34E1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D536B1-CED8-45BD-B97E-CE105AF0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D28E15-3ADD-4D6B-B671-FC0A7E2F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A7F453-CD16-4927-8DF6-00532243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AD960D-4221-4B48-86A0-387350BD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332785-511C-4A6E-A6EC-24EB41DB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6E00DE-A1A2-4D4B-9842-D00F9BEB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E7A297-B979-4813-AAB6-36A3B073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5C430F-F3B5-41FE-A1FA-A73D0D15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77D0E0-DC65-4691-92C1-72EAB86F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A4BA14-C1D0-4D63-8E96-DB4A2D6A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F0E20F-53F0-45EA-950A-8AB1A34D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A35051-CC27-4B34-840D-9119B599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90271F-9168-4F0B-8FBC-86826AA6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44EA-9655-4D27-9719-0F309DD0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EE292B-2C0F-467A-B053-2CA3C621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5648A8-AFFD-4037-AA95-E29D8CC5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5B4C65-7AA9-4C5E-82E2-B5802C3D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E72D6A-245D-440D-AE1B-D0BCA1C4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C63704-EEF7-47D1-8E90-B91A9DB0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50BB12-1BF0-400F-922B-7F190A75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1AF89C-4556-4A7C-B6F8-EF701F26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0CCD8E-F9FA-4227-9560-2AB04D35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64DA1F-A12F-4909-853C-7234063B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EE9247-71CF-4485-8B7E-9B8B296D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742EED-54C5-452C-819D-E20AF450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738E30-325A-4BD6-9694-EDADF68F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1BAD38-A9D5-4321-85C8-25BF4D27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36B6F7-16E9-4A10-9815-5A1F59E7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33BBA4-02C5-4EED-B7E5-3F6A9BA2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149E02-F879-495E-AD63-E0F86B1D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9A973A-509C-4C64-80AB-C991F1ED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F0286A-E312-4160-8B0E-853A312F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F2BD85-565F-4054-ABF6-1539777F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96A737-9858-485C-866D-A36094F1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B80C82-5830-42E4-999C-99B59943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ED00FC-24D5-410C-B90D-4EC170C9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F7E3FF-2E46-4F01-8BDE-E483CFA2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B0C62D-3ABF-47EA-A280-1A495C74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CC493E-E9E0-4ED5-9F04-11F8A741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C34074-8DB7-4C46-8EF4-F1E7CFE6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2C27F4-A7A9-4F13-802A-D8B9A2E2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9E29A3-1133-4F9E-BAB0-DF456DA8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F44C00-B564-4B75-8AC7-DBB41066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4CF5C8-FFAC-4717-9C9A-2D29E92A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18D90D-8C69-48BD-BD62-99D2A25A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A89C7E-7B5C-43C7-B2C2-83773162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2EB9C3-410A-417D-B293-E58BFCDE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938FFB-D3C1-42C7-B7B1-24566A24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585164-0C7C-4F00-B3DF-EE90E3D2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1682DF-C72A-4F7B-84E6-9BF12958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8B7722-6A91-4FC0-90AD-B771F78C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796E24-07AF-4580-9F34-2BF1D27F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60D899-360D-45D9-BE9B-BCE66EFE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A9B8D4-7F2B-433D-A950-A0D6C25B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D4C7DD-8BC2-4169-A574-C8E1EFBA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E0810-D987-4512-9D11-66199B29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BCFC3-ABF4-4FBE-A75F-0C75A5F8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93166E-036C-427F-928A-5D3BE043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70DF5-875F-4B76-9E5F-C2C85338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ADD2A-7E48-4CA3-87B3-7A6BD9C4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D60C-CA2A-4258-B266-277983F7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D67EE-CA60-45F9-8E9E-F527FD74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D0FC6-CED6-4470-9C74-DAB644FC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0B1F5-9519-4328-BCF6-D484DF2A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86E55-2F01-488C-AD40-1EE5CDFB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2FFBC-77C7-4F46-BB8F-3DF1E1EC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5504A-8E2D-4806-A9A7-33A5E638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446ED-8205-491A-A6DC-35A886C0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F57E-3FEF-4C4F-835A-0CC93694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846599-78DF-4543-9B22-5D7866EB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1431-2FE1-41D5-B31D-62BA5F8C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D7F3EC-50BA-4D38-A63A-3EA056BD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0725B1-4BB5-490B-A6DF-CACF6CC0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7D1898-51C0-4D9C-B8CA-49007557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E9FD4C-BE5B-4C34-87EF-505B271B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81B1A1-2858-4A4C-9EB0-4130504E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731943-351F-460C-8D4A-D52D5A1D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6C9F7A-0E15-4A34-A13A-E525EAC9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24F664-0DB1-4763-95E8-43580F6C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1B8FE3-0B2D-4349-9ED9-B6981163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D902E2-1FE2-4E3F-8BD7-D0CBBF9D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6815-6A84-4A3F-8030-8177E613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3A014E-7138-4037-AC1A-A2C408E9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B694E2-2742-4EB7-B471-9CAEFEB4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CC6F3D-C2A6-48FB-929A-E1728D3D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9CD119-84B6-466E-B6D6-2A20016E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71D688-8CEE-4405-9DD4-696B6FC8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7587BA-5595-413E-AAD8-4306A1A1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20AB18-098B-44E8-BCDD-7DF796BA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6E80E1-746F-4128-864E-2666EA1C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F793DD-B77A-4477-915F-412600FE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3181F8-CC11-4A15-A25E-3D32BF4C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5845-4D87-49BF-85DD-650FD575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710607-20E2-4814-BA8C-925D0871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9338FC-C81D-4AE2-8ABB-ACA52144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D02B42-525F-4CFB-9BEE-1D94CAE0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A14C18-B4F6-4F1B-A4C0-A5CF5A5D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CDAD9C-B694-4178-BE5F-A6B411C7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EF9E3A-9954-4AE1-89F5-BDF16857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E2181C-4899-43BC-B3D8-89F3B08B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1BBC42-037E-48B2-A6F2-4DAF967C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06A1F4-909A-457F-9206-78CE5ABE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C7635C-D6D9-414E-8D79-76861663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3F0-D7B6-4EE1-966D-2E593BEC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D6B1E8-BBC1-4A4F-A120-480AAE23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53F7B5-53F2-47BC-8645-34A9940C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732473-D206-4945-90D8-73A9B92B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9D9297-69E3-4E5A-914D-5D906C26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A7F802-3565-43F9-80CD-5CA73B65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ABD5E9-5E4A-4F6D-A5A5-C8833891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BDF45F-B8BE-4974-A047-A22AADB6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0BD3A7-80AF-4173-8785-6AFD80B2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13C2F5-334C-44B7-B4C4-6596DC08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68DD8E-703D-4DB4-A532-576E8EC7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3039-A5CA-4BA9-85AB-A168CCFF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63BE58-A3C9-4207-9A5C-7E98E3BC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FF061C-4608-4D5B-8AC5-8161951B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D08EB6-5342-4C3D-9995-435533A8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63D9BD-F1FA-47D6-85B5-D44F3301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6881DF-D594-46DF-9CD2-DAE1F288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D1F991-9072-4916-B083-0F833D95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2CAF9C-5ED7-45B3-93A6-9CF2D5B5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05B12A-67B4-465F-B9B7-344C05D3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72C998-0A02-480A-86E2-58C2511F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345E7E-4351-4F7A-871A-8175DA78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A5D3-0A2D-4D57-8225-B74DAD3AA9EE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AE7A-41E8-49F5-8D3C-A56D5EE04EAE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F2B2-0E0E-47C3-B19A-60C93F5982FE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5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C06C-5F44-4258-B03E-96BB82FF91F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4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8526-8549-4E81-965F-C6A58C82DDD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8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10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9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58d"/>
                </a:solidFill>
                <a:latin typeface="Rockwell"/>
                <a:ea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6686-2D7A-4AAB-802E-6C45E242E38B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8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9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58d"/>
                </a:solidFill>
                <a:latin typeface="Rockwell"/>
                <a:ea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E581-D0C2-4477-AA03-B80176D7EA99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8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EE6E-BF55-4266-8ADA-7E788B9D9759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8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9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89D9-47B5-4625-A36E-A57693BC686A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10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9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58d"/>
                </a:solidFill>
                <a:latin typeface="Rockwell"/>
                <a:ea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2644-ADEC-42B7-B83C-02A7637D8FE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4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63f1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4d60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02FE-C4B9-4ED7-9D7A-A6CCB6392CA1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01D3-F233-4E2E-849A-A4F5474BA955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4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9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0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1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2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3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C66D-E35E-4BAC-ADF7-9B9C75F899F1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CD55-7997-49CB-A95A-BD5C571D61B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0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7530-1127-4A22-8772-9DFD4E00B853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1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52F9-D13F-4557-88D9-D46D78A5F880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F637-23AB-4DF3-BF72-B76250F37F91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iia.net/education" TargetMode="External"/><Relationship Id="rId2" Type="http://schemas.openxmlformats.org/officeDocument/2006/relationships/hyperlink" Target="http://siia.net/events/events.asp" TargetMode="External"/><Relationship Id="rId3" Type="http://schemas.openxmlformats.org/officeDocument/2006/relationships/hyperlink" Target="http://www.siia.net/etgf" TargetMode="External"/><Relationship Id="rId4" Type="http://schemas.openxmlformats.org/officeDocument/2006/relationships/hyperlink" Target="http://www.elabs3.com/c.html?rtr=on&amp;s=gvf,1e1xn,5koo,c5ts,1ayy,k3qe,l5xr" TargetMode="External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Picture 11" descr="SIIA_main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152280" y="33526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Rockwell"/>
              </a:rPr>
              <a:t>The Learning Registry: A How To Primer for Digital Content Publishers and Aggregators</a:t>
            </a:r>
            <a:br>
              <a:rPr sz="4000"/>
            </a:b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Rockwell"/>
              </a:rPr>
              <a:t>December 20, 2011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6" name="Line 12"/>
          <p:cNvSpPr/>
          <p:nvPr/>
        </p:nvSpPr>
        <p:spPr>
          <a:xfrm>
            <a:off x="1600200" y="3200400"/>
            <a:ext cx="5943600" cy="0"/>
          </a:xfrm>
          <a:prstGeom prst="line">
            <a:avLst/>
          </a:prstGeom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Any form of metadata can be shared, but the community today is focused on exchanging specific metadata around resources and standards alignment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0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Common Core implementation is accelerating demand for quality digital content that has been aligned to standards by curricular experts…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…as well as resources that have been vetted by educators for relevancy to specific standards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6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Currently, standards aligned learning resources are dispersed across the web and teachers have too little time to find them.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Currently, knowledge about what learning resources are useful is not shared across the web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2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We have the web tools to create rich resource discovery experiences and usage data…but how do we share?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8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Sharing standards alignment data through Learning Registry can help put relevant content  in the hands of teachers…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…and illuminate the “social life” of learning resources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819520" y="28954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How-to</a:t>
            </a:r>
            <a:endParaRPr b="0" lang="en-US" sz="3200" spc="-1" strike="noStrike">
              <a:solidFill>
                <a:srgbClr val="36373b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285640" y="2752560"/>
            <a:ext cx="6134040" cy="17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With Learning Registry technology today it is possible to </a:t>
            </a:r>
            <a:r>
              <a:rPr b="1" lang="ja-JP" sz="25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consume</a:t>
            </a:r>
            <a:r>
              <a:rPr b="1" lang="ja-JP" sz="2500" spc="-1" strike="noStrike">
                <a:solidFill>
                  <a:srgbClr val="ffffff"/>
                </a:solidFill>
                <a:latin typeface="Rockwell"/>
              </a:rPr>
              <a:t>”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 standards alignment data from others, and to share standards alignment data about your resources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1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286000" y="27428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In order to participate you will either run a Learning Registry server (called a </a:t>
            </a:r>
            <a:r>
              <a:rPr b="1" lang="ja-JP" sz="25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node</a:t>
            </a:r>
            <a:r>
              <a:rPr b="1" lang="ja-JP" sz="2500" spc="-1" strike="noStrike">
                <a:solidFill>
                  <a:srgbClr val="ffffff"/>
                </a:solidFill>
                <a:latin typeface="Rockwell"/>
              </a:rPr>
              <a:t>”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), or partner with an organization who is running a node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7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286000" y="2743200"/>
            <a:ext cx="60199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A node maintains a copy of the metadata and provides the APIs to publish and consume it.  Nodes are infrastructure, you build applications that use  it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53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285640" y="2590560"/>
            <a:ext cx="563868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Today, the Federal government is running three nodes, and there are several other organizations running or planning to run nodes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5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373b"/>
                </a:solidFill>
                <a:latin typeface="Rockwell"/>
              </a:rPr>
              <a:t>Announcements</a:t>
            </a:r>
            <a:endParaRPr b="0" lang="en-US" sz="40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To access the audio of this webinar, you must dial 866-740-1260, 7894444#.  Audio is NOT available via the web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This webcast is being recorded. The audio visual file and presentation slides will be available on the SIIA Education Division home page. </a:t>
            </a:r>
            <a:r>
              <a:rPr b="0" lang="en-US" sz="2400" spc="-1" strike="noStrike" u="sng">
                <a:solidFill>
                  <a:srgbClr val="1d3d5e"/>
                </a:solidFill>
                <a:uFillTx/>
                <a:latin typeface="Rockwell"/>
                <a:hlinkClick r:id="rId1"/>
              </a:rPr>
              <a:t>www.siia.net/education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Submit questions at any time via the </a:t>
            </a:r>
            <a:r>
              <a:rPr b="0" lang="ja-JP" sz="2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Chat</a:t>
            </a:r>
            <a:r>
              <a:rPr b="0" lang="ja-JP" sz="2400" spc="-1" strike="noStrike">
                <a:solidFill>
                  <a:srgbClr val="595959"/>
                </a:solidFill>
                <a:latin typeface="Rockwell"/>
              </a:rPr>
              <a:t>”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feature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SIIA Events: </a:t>
            </a:r>
            <a:r>
              <a:rPr b="0" lang="en-US" sz="2400" spc="-1" strike="noStrike" u="sng">
                <a:solidFill>
                  <a:srgbClr val="1d3d5e"/>
                </a:solidFill>
                <a:uFillTx/>
                <a:latin typeface="Rockwell"/>
                <a:hlinkClick r:id="rId2"/>
              </a:rPr>
              <a:t>http://siia.net/events/events.asp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lvl="1" marL="443160" indent="-221400">
              <a:spcBef>
                <a:spcPts val="6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BETT 2012, January in Lond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43160" indent="-221400">
              <a:spcBef>
                <a:spcPts val="6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IA Ed Tech Government Forum, March 7-8 in DC </a:t>
            </a:r>
            <a:r>
              <a:rPr b="0" lang="en-US" sz="2000" spc="-1" strike="noStrike" u="sng">
                <a:solidFill>
                  <a:srgbClr val="1d3d5e"/>
                </a:solidFill>
                <a:uFillTx/>
                <a:latin typeface="Rockwell"/>
                <a:hlinkClick r:id="rId3"/>
              </a:rPr>
              <a:t>www.siia.net/etgf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43160" indent="-221400">
              <a:spcBef>
                <a:spcPts val="6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IA Ed Tech Industry Summit, May 6-8 in SF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4316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IA Ed Tech Business Forum, Nov 28–29, 2011 – Archive at </a:t>
            </a:r>
            <a:r>
              <a:rPr b="0" lang="en-US" sz="2000" spc="-1" strike="noStrike" u="sng">
                <a:solidFill>
                  <a:srgbClr val="1d3d5e"/>
                </a:solidFill>
                <a:uFillTx/>
                <a:latin typeface="Rockwell"/>
                <a:hlinkClick r:id="rId4"/>
              </a:rPr>
              <a:t>http://bit.ly/OnlineETBF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775E-2B3F-49FB-B11C-E8AC69CEE6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2286000" y="2980800"/>
            <a:ext cx="5867280" cy="159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To read metadata out of Learning Registry your technical team needs to process a JSON header, and pull either JSON or XML metadata into your data systems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6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5867280" cy="189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To send metadata to the Learning Registry your technical team needs to publish a cryptographic “public key,” and convert your internal metadata into a format the larger community is using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6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285640" y="2981160"/>
            <a:ext cx="60958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We estimate that it will take an engineer familiar with web technologies about 3 days to publish data into production. Consuming data is more variable depending on how you will use them. 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7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286000" y="2980800"/>
            <a:ext cx="586728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Currently the Learning Registry mainly contains metadata, published from a number of collaborators, about resource classification and usage data. 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7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285640" y="2980800"/>
            <a:ext cx="6172200" cy="159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Standards alignment data is shared as both classification data (New York state officially aligned Resource X to Standard Y), and as usage data (Teachers of migrant students used Resource X in a lesson aligned to Standard Y)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8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2285640" y="2980800"/>
            <a:ext cx="6172200" cy="204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Multiple existing metadata formats can be used for sharing classification data.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The Learning Registry community has created new formats for sharing usage data that function more like social networking data than library data. Other formats may emerge. 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8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285640" y="259092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The standards alignment metadata work is largely waiting on the publication of universal metadata ID’s for common core standards to be published by NGA/CCSSO in early January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9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58672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We would encourage you to have your engineers engage with our technical team to begin understanding what specific approaches will work for you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9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640080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Next steps: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Interested parties should join the Learning Registry announcement mail list:</a:t>
            </a:r>
            <a:br>
              <a:rPr sz="1700"/>
            </a:br>
            <a:br>
              <a:rPr sz="1700"/>
            </a:br>
            <a:r>
              <a:rPr b="1" lang="en-US" sz="1300" spc="-1" strike="noStrike">
                <a:solidFill>
                  <a:srgbClr val="ffffff"/>
                </a:solidFill>
                <a:latin typeface="Rockwell"/>
              </a:rPr>
              <a:t>http://groups.google.com/group/learningregistry/</a:t>
            </a:r>
            <a:endParaRPr b="0" lang="en-US" sz="1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0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63244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Next steps: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Product and system managers should join the collaboration mailing list:</a:t>
            </a:r>
            <a:br>
              <a:rPr sz="1700"/>
            </a:br>
            <a:br>
              <a:rPr sz="1700"/>
            </a:br>
            <a:r>
              <a:rPr b="1" lang="en-US" sz="1300" spc="-1" strike="noStrike">
                <a:solidFill>
                  <a:srgbClr val="ffffff"/>
                </a:solidFill>
                <a:latin typeface="Rockwell"/>
              </a:rPr>
              <a:t>http://groups.google.com/group/learning-registry-collaborate/</a:t>
            </a:r>
            <a:endParaRPr b="0" lang="en-US" sz="1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0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373b"/>
                </a:solidFill>
                <a:latin typeface="Rockwell"/>
              </a:rPr>
              <a:t>Agenda</a:t>
            </a:r>
            <a:endParaRPr b="0" lang="en-US" sz="40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elcome - Mark Schneiderman, SIIA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Overview &amp; Speaker Introductions – Gail Lewis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R Background, Status and Goals – Steve Midgle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R How To Primer – Steve Midgley and Susan Van Gund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Reaction / Q&amp;A - Al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D547-C6E0-4159-BE77-D578181C3F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63244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Next steps: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Appropriate technology staff should join the technical mailing list:</a:t>
            </a:r>
            <a:br>
              <a:rPr sz="1700"/>
            </a:br>
            <a:br>
              <a:rPr sz="1700"/>
            </a:b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http://groups.google.com/group/learningreg-dev/</a:t>
            </a:r>
            <a:endParaRPr b="0" lang="en-US" sz="18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1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286000" y="2980800"/>
            <a:ext cx="6324480" cy="16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Documentation and information is available at:</a:t>
            </a: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http://www.learningregistry.org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http://www.learningregistry.org/documents</a:t>
            </a:r>
            <a:endParaRPr b="0" lang="en-US" sz="18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1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63244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Open licensed source code and a developer wiki is available at:</a:t>
            </a:r>
            <a:br>
              <a:rPr sz="2300"/>
            </a:br>
            <a:br>
              <a:rPr sz="2300"/>
            </a:b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https://github.com/LearningRegistry</a:t>
            </a:r>
            <a:endParaRPr b="0" lang="en-US" sz="18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2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666520" y="4624560"/>
            <a:ext cx="6172200" cy="12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373b"/>
                </a:solidFill>
                <a:latin typeface="Rockwell"/>
              </a:rPr>
              <a:t>Thank You</a:t>
            </a:r>
            <a:endParaRPr b="0" lang="en-US" sz="40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800600" y="53341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  <a:ea typeface="Arial"/>
              </a:rPr>
              <a:t>Many slides credit to: 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  <a:ea typeface="Arial"/>
              </a:rPr>
              <a:t>Daniel R Rehak, PhD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  <a:ea typeface="Arial"/>
              </a:rPr>
              <a:t>ADL Technical Advisor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  <a:ea typeface="Arial"/>
              </a:rPr>
              <a:t>Department of Defense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30" name="TextBox 3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304920" y="4460760"/>
            <a:ext cx="2171520" cy="2171880"/>
          </a:xfrm>
          <a:prstGeom prst="rect">
            <a:avLst/>
          </a:prstGeom>
          <a:ln w="0">
            <a:noFill/>
          </a:ln>
        </p:spPr>
      </p:pic>
      <p:sp>
        <p:nvSpPr>
          <p:cNvPr id="1032" name="Subtitle 2"/>
          <p:cNvSpPr/>
          <p:nvPr/>
        </p:nvSpPr>
        <p:spPr>
          <a:xfrm>
            <a:off x="2286000" y="4724280"/>
            <a:ext cx="3429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Steve Midg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Deputy Directo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Office of Ed Te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US Dept of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steve.midgley@ed.gov / @stevemidg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ubtitle 2"/>
          <p:cNvSpPr/>
          <p:nvPr/>
        </p:nvSpPr>
        <p:spPr>
          <a:xfrm>
            <a:off x="457200" y="167652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www.learningregi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9"/>
          <p:cNvSpPr/>
          <p:nvPr/>
        </p:nvSpPr>
        <p:spPr>
          <a:xfrm>
            <a:off x="473760" y="990720"/>
            <a:ext cx="39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Learning Reg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373b"/>
                </a:solidFill>
                <a:latin typeface="Rockwell"/>
              </a:rPr>
              <a:t>Speakers</a:t>
            </a:r>
            <a:endParaRPr b="0" lang="en-US" sz="40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teve Midgley, Deputy Director of Education Technology, U.S. Department of Educati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usan Van Gundy, Director of Education and Strategic Partnerships, National Science, Technology, Engineering, and Mathematics Digital Library (NSDL)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Gail Lewis (Moderator), Senior Product Manager, Capstone Digita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0C9E-54B6-4F18-BEDF-5E6F344922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3886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he Learning Registry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Projec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800600" y="5346360"/>
            <a:ext cx="403848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Arial"/>
              </a:rPr>
              <a:t>Primary Funding from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Arial"/>
              </a:rPr>
              <a:t>US Dept of Educati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Arial"/>
              </a:rPr>
              <a:t>US Dept of Defens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8" name="Subtitle 2"/>
          <p:cNvSpPr/>
          <p:nvPr/>
        </p:nvSpPr>
        <p:spPr>
          <a:xfrm>
            <a:off x="609480" y="5334120"/>
            <a:ext cx="51818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819520" y="28954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Overview</a:t>
            </a:r>
            <a:endParaRPr b="0" lang="en-US" sz="3200" spc="-1" strike="noStrike">
              <a:solidFill>
                <a:srgbClr val="36373b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5640" y="2743200"/>
            <a:ext cx="609588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Learning Registry is a distributed system that permits sharing of metadata about learning resources..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2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285640" y="2743200"/>
            <a:ext cx="609588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…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developed through an open community process that engages learning resource creators, publishers, curators, and consumers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8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285640" y="274320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Learning Registry is a data exchange mechanism—not a destination website, search engine, or repository—upon which diverse user services can be built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7:31:48Z</dcterms:created>
  <dc:creator>Rehak</dc:creator>
  <dc:description/>
  <dc:language>en-US</dc:language>
  <cp:lastModifiedBy> </cp:lastModifiedBy>
  <cp:lastPrinted>2010-09-27T13:40:12Z</cp:lastPrinted>
  <dcterms:modified xsi:type="dcterms:W3CDTF">2012-01-03T20:43:44Z</dcterms:modified>
  <cp:revision>524</cp:revision>
  <dc:subject/>
  <dc:title>Advanced Learning Technologies Innovation Strategy</dc:title>
</cp:coreProperties>
</file>