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</p:sldIdLst>
  <p:sldSz cx="9144000" cy="6858000"/>
  <p:notesSz cx="7315200" cy="9601200"/>
</p:presentation>
</file>

<file path=ppt/commentAuthors.xml><?xml version="1.0" encoding="utf-8"?>
<p:cmAuthorLst xmlns:p="http://schemas.openxmlformats.org/presentationml/2006/main">
  <p:cmAuthor id="0" name="Daniel Rehak" initials="D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1-12-19T09:50:06.821000000" idx="1">
    <p:pos x="10" y="10"/>
    <p:text>New slide -- we've had problems in some ADL outreach with people wanting to go to the LR as a destination and couldn't do a publication without having the end user site to refer to.  Trying to be very explicit that it's not end user facing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58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EFBB-F535-4C1A-8893-E9518DE9A285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ftr" idx="59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 type="sldNum" idx="60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8617-A986-4EC5-B0B4-BE7936307ED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0B32-71CE-4C5B-A1A3-5640394D5FC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40 minutes for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20 minutes for Q&amp;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and Tasiyiwa build framework and send to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e will build the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ach panelist will address all of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can provide info on copy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rilby will mention trade mission to SG at ICT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lug global series work i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uriya Aziz: VP Educational Publis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Log in at 8:45 E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will open the c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: Intro Mimi Jett *provide 2-3 sentence bio to 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intro each panelist with 2-3 sentence bi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pose the questions to e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B will NOT address govt trends and spen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xpect 3-4 minutes on each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After Q&amp;A we will close with some announcements-talk about Global working group, future webinar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tay on line for post mor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end speaker release, bio, specific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Give website addresses for upcoming conferences, other research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1023-A5B4-4A2C-BC10-FC12DE85DA4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F189-5433-4E52-9204-F5C74510966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998B-83E6-4746-9D6A-282A97DED5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99A0-E44F-4AC5-8B64-2A8F6BB6636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E6BC-7B0F-4D49-A0B7-43C642D183C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F1E0-FA92-4448-BD5E-9773E13331C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632C-7202-42A4-A84D-D3A87E7F21A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4689-4BA8-414D-A588-F450D81DD2F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EFB2-90E2-4550-BB2F-2818A0EACDC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B346-C39F-412B-B85B-3465B0B6438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857C-1E14-4205-85D9-6C600DD6C7B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59F6-76E3-45D0-B005-8462319B7F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F48F-7FC2-4DC6-A46D-241571FD8E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7D3F-0393-49B0-B0C9-4CCA5ACE1A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9779-2F7C-495D-A70D-6AA5D641B4B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6C8C-EA16-40CC-BFD9-037D012914F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6A36-AE55-4C7C-BAC5-DC63D75B20B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F6B3-CDBC-4D14-8242-DC2B3608126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99A8-2D60-4753-8076-F02AD3385B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D5AD-F9B0-4A91-A72B-D4461D507B9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A9E3-4FF4-4470-AD33-80906B29A99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5F84-6321-44C1-9DEA-46AF245CD61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298F-E2E5-4E9D-9B74-88CA64B536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BD32-E772-488E-BE4F-1E750104E64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7180-C5F8-4A0F-8D4A-51A3EB02B01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06AE-2AAC-4787-89EA-8417D955BA1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2F59-559E-48C9-A7D7-390F11ACF72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373F-8D43-4C3A-8A5F-89C21257C8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8712-7882-4297-B45A-0D712D176ED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E426-630D-4592-8C0B-658DC9D3F28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4350-A305-4504-92DC-A9294C64BE3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730F-9828-47D1-98FF-73400D3FA7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D40-7AE3-406A-BB1E-19053C31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4D1-FBD6-41F1-AB12-2E56D4DA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9F093-858C-4DD2-A693-8D809F07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1A42B-1597-484E-956F-69B5985C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DF7B6-DF23-4AA3-91D8-3A18A4B2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BA634-6368-49D2-9960-D04E39F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D4D30-3634-4924-8206-693F6EDD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5BF48-AD6D-487C-9061-2D61A697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E227A-6FE5-4587-A9CB-A73D4E70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8D13B-5F55-4E3D-9F7E-EA8EF31C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A89CA-C981-45CD-8E20-5D95099B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5BCB3-F6F8-488B-AAB1-F4559940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388-30F5-479F-AEF0-0FAEC278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8916B4-BEFB-46A5-A6A1-92C92627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78BBC-B7A9-4CE2-881F-F214FC72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E2125-C5BD-4A7D-9981-71A97646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C3F26-F988-45E7-B017-EBADCBAC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CF79B-4936-484F-81C6-51539848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3B2BE-D07F-46EB-8940-2A6DC6A5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6C705-733D-4271-A406-19B2A48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61A59-FA4C-4F5A-B981-BC6F9E5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9AF28-1FC1-4BDA-BE99-83DD3F93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6EADD-1267-4435-B448-940E9C2E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0F4-7B85-44E6-B5DA-FCB3BCA1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D3471-5F37-4B06-A1BE-0B33F8BA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5C7CD5-F1C4-40C6-8EA2-DFDD78A6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A0A9E1-18BC-4625-A726-8FA4D143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C119C8-5F4B-4CEA-ADB5-EDBBCB63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209D54-F1E6-4E40-BDFA-44215509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188A01-81DF-454F-99F3-FAD90366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D1B89B-CCD5-4283-A4DA-F2FC62E9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5BBB9A-8FD3-4641-907C-E5C1D143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C8B4F5-2A82-4097-A91B-0D941CB0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E3664D-72E1-48AA-93CC-63AA5C76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C24B9A-9C28-4AF8-9641-D88A7E7F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E7CDB9-073F-4D98-89FF-88938641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20E234-EBBC-4CD2-B439-47F5EEAE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14284-783A-4CF1-BED6-3D72348B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57656-8457-4796-8F02-98997DFB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9589F3-D2E5-48A1-AF20-7E49DA47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198E9-8CB7-43B1-AFCB-066CA30C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17649-7850-4E69-86BC-959A4986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0E9AA-1831-40AA-A1E0-AA7F2440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B2778-ED0C-4A76-9C10-9E4B619A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93DD0-D870-4B8B-9008-F80DB0AE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F1D7A-CFFA-4BDA-A9DA-A21C00C0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9EC56-622E-4AED-89BD-CFAB34E2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5B373-EAF5-4CB8-8F01-FA9683A6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DFAEC-C37E-488B-B8CF-8B0E262F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48F4D2-2252-4225-904B-5D64EB34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7D57C5-619F-44F1-8304-2581642B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469BAE-2EEC-465D-89C4-FF249C6E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40D20F-D56F-4729-B4C1-2A3E97B5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FD3386-3780-4933-BF63-9982A92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D23508-F38F-4890-9B6E-8007DF0E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7A288D-92AC-434C-A689-5D5359B1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55189D-A831-49DA-86B2-9A9BAAC0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F53C32-592F-411B-845D-F864E645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2A2BF3-E724-49E6-B17F-5BAA60CC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5B34F3-2079-4520-8337-8BE3C3FC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8BA0FB-B662-4C04-BBDD-5C883F32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0E406-C36D-4F8E-84C2-4BF20E42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733EC-E96E-4749-B097-6C65A62F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9A743-7584-4476-A4EF-787CF4C9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37FCE-8674-4809-969A-DD8D1286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D0FC7-0974-4A9C-8BC2-7B66A3AB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EF5A8-196D-4C61-B8D1-F5534F26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DCC8B-07BB-49A5-B38C-05460BA0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A5BAD-01F0-4258-91C1-5D9AE779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A493B-D8C5-4980-8284-C7B9B3B8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75D18-86E5-4F3C-A647-4203B5D0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5E2FD-5954-4EEC-BCCC-410F3FC9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B6032-165C-4E6D-95C6-C8C6ACF3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9BB48-989E-4AE6-9528-FDB5FF62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D53B3-1181-4A90-A757-12C79C8F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3A653-2B3E-4586-869C-11F353FC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78443-0EBE-4BBD-955A-8642E1BB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F0C77-DEB4-4C43-A789-51D1DDE4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80A15-E55B-44D6-97AE-D88808E7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CC24A-A493-4864-BC65-0894A8C2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DD49B-9C97-4365-8450-D99A4CC3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F1DE3-2D94-452C-846F-F51A1B2E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ACCB2-BEB9-4C5A-B5D6-C7B3747B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73463-F1A2-4B47-8B0D-8B0CE562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34B7A-0879-4B2B-8B75-6D6632DC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307561-7170-45EE-878D-914FC3C4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8FCDE9-47BF-4FAA-BDD8-1A350F49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2A6E6-BF30-45A1-93B0-FEE1F33E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AA6C98-4ED5-4ED5-A950-B9D54599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E005B-F8A6-456B-8165-49BDB896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0FD24-A0A4-45D1-A273-79F43BCD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CC12C-4957-4754-8502-AB7E750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7D4-3053-48B8-BE5E-8F463A96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3FB66-3CFA-4CB0-88CC-4FC87E43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01DB2-D574-489C-AF03-D92443A1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0D5B0-831D-422E-BD6A-3E3497B1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714EB-BDF4-4AEB-8967-D124AF1E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E5A68-202E-402B-B79F-0DCAE306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D1883-B6D0-4DE5-82B5-68EE2D90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E0E1A-3444-4939-BE7B-D79FEF7D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94C87-9B23-44DE-8DBF-14BF96AD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BBB23-3F7E-49C9-97C6-1F86F087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B719D-1070-43F8-88CE-4E2FE912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5C94F-8BE0-46BD-9B42-6C35C609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12332-4B53-4775-AA24-FEB55AD4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61483-81CD-4457-9F4E-7E07CE29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8F6C9-7B64-4898-86C6-9D9FFB3D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D512F-3DE8-442D-B51A-680237EB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572E9-E3B4-49CF-95D0-0EFC6307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8B43EF-C195-4724-B3B5-8A81F1E8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0D7E4-61C0-4F44-8095-076BBA0D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6B2E25-3805-42C7-AC74-FAFFDA9D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DD700-9286-4497-8B28-101FBD3C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E8505C-9CE8-466D-9338-9E70E239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9B1EF-F77B-4EAB-B706-A932BC8F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EB2BA-7333-4264-AAD4-B6C74ADE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8F994-730B-409D-872A-08DD9A18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231BB3-FC93-4F87-8C93-2125AD60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4524A5-0FCD-4415-95E1-875D38ED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1C07A-782F-4CC6-BF5A-5A39D2AC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38262-CF10-4451-9BEC-902AFE69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5AF64-7ABF-4642-BA85-E93E506D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3A03D-A6F1-4A63-90BE-A1F378D0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AF4E2-58DD-41BF-9478-8ED275F3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0C8474-1C90-4B14-830E-F4B1B019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6CC76F-3034-4E39-8F52-D7D5EEAE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5F70D5-6A60-45E4-A770-8534B4A1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B72EF1-AE10-4F81-8148-83C859E5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2223CE-A7C9-4E19-8F09-97498332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D0B66B-0AB5-4CEC-AE4E-D26EA92B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7573C1-0A2C-4486-8325-03F5B363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2C9C25-CE8C-482D-97AF-50D35F5D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81F13-999D-4B2D-A49F-1E84216E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8FBCD0-4833-4464-A8BD-3426EC33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A5B32-454C-4118-BE86-FDA36120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836A6-1F09-4A98-9E8A-500A7259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16027-3262-40C3-95A1-6796CBEA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CCCB8-EC78-4086-9818-680B9679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9611C-D757-4668-98E8-10353F9E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71F-8A3C-44ED-8367-C5B321A4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34090-9B00-41B1-AEC8-CEDA3863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15061-DB89-42C5-86AE-D76ECBD6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F6AE9-3306-4A1F-BA99-5FD862D5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6E85C-BACA-4409-93AF-40C4D069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8F2B8-923E-4154-8A17-B312A722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BEFED-7CDD-4353-8625-47D075AF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FCBF1-D758-4FBD-AE3D-7AE27C85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4E5-7504-43A7-A11E-F53F1F14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13565B-64C4-4EEF-BA75-284A80B3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7A2-C75B-4444-AD41-1F6A651A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B3BF66-AFFD-41D3-9303-B3DE3572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28855E-0BE6-4C4D-BB92-2C96B98A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074DF9-5F05-4314-8CFE-BFC0B1DA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3C1169-054A-423D-BDA7-9A7703F1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1BA7D7-805F-4895-B754-180563C0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9CF18D-F69E-4965-816E-4CB41871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4301F0-3F74-40CC-9F92-DF7D6AA8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76E27D-0BFE-4CAA-8429-699C5D02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8633ED-9CB7-4924-B960-A545F019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C77331-4FF7-43BB-86CE-F593461E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A8A-0F25-45A3-A587-5E253E58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E505D-341D-4DEA-89CB-EE5029AD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975D31-CD52-4009-B78B-88026233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D59142-2DCE-4D48-8AEB-98F1681F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687A1A-B399-419A-9D8B-9502D60D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3EF338-8244-4985-B556-97CBA57B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9B3C5D-F765-4409-A3F3-DAECC84C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89B042-75C4-4E0B-BCA2-97ADAF41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672D97-372C-4D9F-B86B-50D4534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CBE22A-5DC4-4ED5-84FA-8E4230A1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9BE082-6DD1-4F4C-A4EA-070B0D49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B09-B89F-4015-8243-9FA25122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DA9EE-E878-4888-8FC5-9D4BC266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13F9B6-6652-465F-9975-2A11F6D9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89D118-96D1-4EF4-A8B4-09B238A5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1C33D8-0E4E-4476-8F34-5A4966F8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4BB7C8-188C-47F0-BE2E-3BDB482D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9AC053-15A5-4E74-89BB-21733034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F69072-F2E3-4927-B43D-BDFEFBA3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FE8DDF-5730-4AE3-82A6-8F492854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F19568-9599-453E-AA1C-2C9B9207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0859A9-3C69-4C9F-B7F4-0A8FA8F0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099-E409-418F-A075-99A1462A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2CBFC0-1A9F-4964-9217-FF889A7D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598B71-6189-411A-9A83-DA509DFC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DFC2E3-9C1E-443D-92BD-DBD720A1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B8A4E0-0BAA-47F2-8DA8-06F2115C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CECAD3-0EA7-4A38-9429-0E04ED2E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BFCE2F-18A5-4B9F-963A-51E68F86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10AC77-8C2D-4346-95C9-4C132CCC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75EF61-C55C-4000-A39E-07322E9F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C0BABB-AFDD-4580-8289-6ACA2726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FE2467-71D2-49AC-B175-B2329667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7A3-8853-4F3C-ABCF-268AAA2D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DBEA63-9EA0-475F-8968-292879C4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BBA9B4-1E9E-4A74-884E-70234BC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B5343B-3163-40F8-910D-EBCBB8F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21829B-8883-4A1B-BF3F-016F3979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290DDF-E7C5-4D35-BF1B-9FE0E06F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0A218A-9176-43EE-A086-DAE04F23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E6E3B0-BF5A-4DF6-AB6C-663F83D3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255F6-CB67-43AC-911E-AACC27AC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C63FE-2588-41F0-B12D-AF083F11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60648-5230-48E4-BBD8-7BB16CA8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B0C2-C68B-4A57-A98D-D2041329990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3EEA-2160-4434-8C8D-43352125AEC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BC21-E5E0-4B9E-B3FC-0296D456D4E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8C15-3F7E-4B01-840B-AF30463811C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C651-B840-4A63-B3C2-E437958695D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5AB8-665E-4D08-82AA-0D563A3ABF8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9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1120-BA8F-4281-99F8-416C7FF6AA3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B979-8948-4FF8-BD7C-1DD3CFEA39A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42D0-7EE5-4E07-86A0-793BEB87C8F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9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B8C5-518D-4D79-ACD1-1F08C55F899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63f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4d60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15BF-E8EB-4E4E-B79C-CA8FC4CCD42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84A3-347E-489A-B0D0-3C7403A42E6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3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751F-41A1-4F39-BAD8-58D0C671A31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4ECE-DA5C-4855-BAB2-8967AF82967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F856-2048-4191-B614-D023940EC1F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66D1-892E-4C36-8C35-2FEB3F27E3D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77F1-0E83-44F3-A55A-F6C9D4A67A9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ia.net/education" TargetMode="External"/><Relationship Id="rId2" Type="http://schemas.openxmlformats.org/officeDocument/2006/relationships/hyperlink" Target="http://siia.net/events/events.asp" TargetMode="External"/><Relationship Id="rId3" Type="http://schemas.openxmlformats.org/officeDocument/2006/relationships/hyperlink" Target="http://www.siia.net/etgf" TargetMode="External"/><Relationship Id="rId4" Type="http://schemas.openxmlformats.org/officeDocument/2006/relationships/hyperlink" Target="http://www.elabs3.com/c.html?rtr=on&amp;s=gvf,1e1xn,5koo,c5ts,1ayy,k3qe,l5xr" TargetMode="External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152280" y="33526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Rockwell"/>
              </a:rPr>
              <a:t>The Learning Registry: A How To Primer for Digital Content Publishers and Aggregators</a:t>
            </a:r>
            <a:br>
              <a:rPr sz="4000"/>
            </a:b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Rockwell"/>
              </a:rPr>
              <a:t>December 20, 2011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6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Any form of metadata can be shared, but the community today is focused on exchanging specific metadata around resources and standards alignment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0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ommon Core implementation is accelerating demand for quality digital content that has been aligned to standards by curricular expert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s well as resources that have been vetted by educators for relevancy to specific standard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standards aligned learning resources are dispersed across the web and teachers have too little time to find them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knowledge about what learning resources are useful is not shared across the web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have the web tools to create rich resource discovery experiences and usage data…but how do we share?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haring standards alignment data through Learning Registry can help put relevant content  in the hands of teacher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nd illuminate the “social life” of learning resource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How-to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285640" y="2752560"/>
            <a:ext cx="6134040" cy="17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With Learning Registry technology today it is possible to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onsum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 standards alignment data from others, and to share standards alignment data about your resourc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1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286000" y="27428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In order to participate you will either run a Learning Registry server (called a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nod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), or partner with an organization who is running a node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7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86000" y="2743200"/>
            <a:ext cx="6019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 node maintains a copy of the metadata and provides the APIs to publish and consume it.  Nodes are infrastructure, you build applications that use  i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3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285640" y="2590560"/>
            <a:ext cx="563868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day, the Federal government is running three nodes, and there are several other organizations running or planning to run nod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nnouncement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o access the audio of this webinar, you must dial 866-740-1260, 7894444#.  Audio is NOT available via the web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is webcast is being recorded. The audio visual file and presentation slides will be available on the SIIA Education Division home page.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1"/>
              </a:rPr>
              <a:t>www.siia.net/education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ubmit questions at any time via the 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Chat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”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featur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IIA Events: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2"/>
              </a:rPr>
              <a:t>http://siia.net/events/events.asp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BETT 2012, January in Lond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Government Forum, March 7-8 in DC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3"/>
              </a:rPr>
              <a:t>www.siia.net/etg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Industry Summit, May 6-8 in SF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Business Forum, Nov 28–29, 2011 – Archive at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4"/>
              </a:rPr>
              <a:t>http://bit.ly/OnlineETB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6A2A-3A94-4B99-8C79-902B3205A6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o read metadata out of Learning Registry your technical team needs to process a JSON header, and pull either JSON or XML metadata into your data system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89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 send metadata to the Learning Registry your technical team needs to publish a cryptographic “public key,” and convert your internal metadata into a format the larger community is using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285640" y="2981160"/>
            <a:ext cx="60958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estimate that it will take an engineer familiar with web technologies about 3 days to publish data into production. Consuming data is more variable depending on how you will use them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urrently the Learning Registry mainly contains metadata, published from a number of collaborators, about resource classification and usage data. 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tandards alignment data is shared as both classification data (New York state officially aligned Resource X to Standard Y), and as usage data (Teachers of migrant students used Resource X in a lesson aligned to Standard Y)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204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Multiple existing metadata formats can be used for sharing classification data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Learning Registry community has created new formats for sharing usage data that function more like social networking data than library data. Other formats may emerge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285640" y="259092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standards alignment metadata work is largely waiting on the publication of universal metadata ID’s for common core standards to be published by NGA/CCSSO in early January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would encourage you to have your engineers engage with our technical team to begin understanding what specific approaches will work for you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40080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Interested parties should join the Learning Registry announcement mail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registry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Product and system managers should join the collaboration mailing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-registry-collaborate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genda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lcome - Mark Schneiderman, SIIA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Overview &amp; Speaker Introductions – Gail Lewis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Background, Status and Goals – Steve Midg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How To Primer – Steve Midgley and Susan Van Gund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Reaction / Q&amp;A - Al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610B-492F-45E8-9FAE-A2995F23D8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Appropriate technology staff should join the technical mailing list:</a:t>
            </a:r>
            <a:br>
              <a:rPr sz="1700"/>
            </a:br>
            <a:br>
              <a:rPr sz="17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groups.google.com/group/learningreg-dev/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6324480" cy="16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Documentation and information is available at: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/documents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Open licensed source code and a developer wiki is available at:</a:t>
            </a:r>
            <a:br>
              <a:rPr sz="2300"/>
            </a:br>
            <a:br>
              <a:rPr sz="23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s://github.com/LearningRegistry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520" y="4624560"/>
            <a:ext cx="6172200" cy="12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Thank You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800600" y="53341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Many slides credit to: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aniel R Rehak, PhD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ADL Technical Advisor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epartment of Defense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304920" y="4460760"/>
            <a:ext cx="2171520" cy="2171880"/>
          </a:xfrm>
          <a:prstGeom prst="rect">
            <a:avLst/>
          </a:prstGeom>
          <a:ln w="0">
            <a:noFill/>
          </a:ln>
        </p:spPr>
      </p:pic>
      <p:sp>
        <p:nvSpPr>
          <p:cNvPr id="1032" name="Subtitle 2"/>
          <p:cNvSpPr/>
          <p:nvPr/>
        </p:nvSpPr>
        <p:spPr>
          <a:xfrm>
            <a:off x="2286000" y="47242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 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Deputy Direct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Office of Ed T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US Dept of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.midgley@ed.gov / @steve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ubtitle 2"/>
          <p:cNvSpPr/>
          <p:nvPr/>
        </p:nvSpPr>
        <p:spPr>
          <a:xfrm>
            <a:off x="457200" y="167652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www.learningregi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473760" y="9907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Learning Reg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Speaker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eve Midgley, Deputy Director of Education Technology, U.S. Departmen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usan Van Gundy, Director of Education and Strategic Partnerships, National Science, Technology, Engineering, and Mathematics Digital Library (NSDL)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Gail Lewis (Moderator), Senior Product Manager, Capstone Digita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A527-7C08-46DA-906A-5B65BBDBC2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e Learning Registry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Projec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800600" y="5346360"/>
            <a:ext cx="40384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Primary Funding from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Defens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8" name="Subtitle 2"/>
          <p:cNvSpPr/>
          <p:nvPr/>
        </p:nvSpPr>
        <p:spPr>
          <a:xfrm>
            <a:off x="609480" y="5334120"/>
            <a:ext cx="5181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Overview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istributed system that permits sharing of metadata about learning resources..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developed through an open community process that engages learning resource creators, publishers, curators, and consumer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ata exchange mechanism—not a destination website, search engine, or repository—upon which diverse user services can be buil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31:48Z</dcterms:created>
  <dc:creator>Rehak</dc:creator>
  <dc:description/>
  <dc:language>en-US</dc:language>
  <cp:lastModifiedBy> </cp:lastModifiedBy>
  <cp:lastPrinted>2010-09-27T13:40:12Z</cp:lastPrinted>
  <dcterms:modified xsi:type="dcterms:W3CDTF">2012-01-03T20:43:44Z</dcterms:modified>
  <cp:revision>524</cp:revision>
  <dc:subject/>
  <dc:title>Advanced Learning Technologies Innovation Strategy</dc:title>
</cp:coreProperties>
</file>