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66"/>
              </a:solidFill>
              <a:latin typeface="Book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Book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C75D-6B49-4357-9832-0F9BE3CDF43A}"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136F-E6C0-4563-8976-6B46B1A1B648}" type="slidenum">
              <a:rPr b="0" lang="en-US" sz="1200" spc="-1" strike="noStrike">
                <a:solidFill>
                  <a:srgbClr val="000066"/>
                </a:solidFill>
                <a:latin typeface="Bookman"/>
              </a:rPr>
              <a:t>&lt;number&gt;</a:t>
            </a:fld>
            <a:endParaRPr b="0" lang="en-US" sz="1200" spc="-1" strike="noStrike">
              <a:solidFill>
                <a:srgbClr val="000066"/>
              </a:solidFill>
              <a:latin typeface="Bookman"/>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F2745-4314-4FBB-A404-A28B7E7D32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9F03A-0450-431C-A08A-253F8D416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592E0-F189-4E5D-8555-1D6E844FA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6844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6844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222E6-8BD7-44AF-A586-9E36DCDDB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53049-8550-4006-A2A3-A51083916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39CF7-6D00-4C61-BDDF-8B3E2EC0B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13B8A-17F0-445D-AFF7-1ED61723B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F56E8-9C75-414A-A5D1-2A3DDF283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838080"/>
            <a:ext cx="73152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851E2-78EE-4D5D-88A9-CED4506B0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4733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2754E-746D-4BEC-8A84-CA460E118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4733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8D704-6921-42B5-9EE3-2D9DADBC1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4733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E6AED-1E17-454C-A15A-F4E66540C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D:\Current Projects\powerpoint\SIIA_pp.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838080"/>
            <a:ext cx="7315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Book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FBE9-D277-48B9-BF87-78A7BE5A7C69}" type="slidenum">
              <a:rPr b="0" lang="en-US" sz="1400" spc="-1" strike="noStrike">
                <a:solidFill>
                  <a:srgbClr val="000000"/>
                </a:solidFill>
                <a:latin typeface="Times New Roman"/>
              </a:rPr>
              <a:t>&lt;number&gt;</a:t>
            </a:fld>
            <a:endParaRPr b="0" lang="en-US" sz="1400" spc="-1" strike="noStrike">
              <a:solidFill>
                <a:srgbClr val="000066"/>
              </a:solidFill>
              <a:latin typeface="Book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Picture 11" descr="D:\Current Projects\powerpoint\SIIA_mainppt.jpg"/>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subTitle"/>
          </p:nvPr>
        </p:nvSpPr>
        <p:spPr>
          <a:xfrm>
            <a:off x="1600200" y="3657240"/>
            <a:ext cx="601992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y Views on the Current and Future Cloud Computing Adoption and Next Steps</a:t>
            </a:r>
            <a:endParaRPr b="0" lang="en-US" sz="28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LeDuc - June 6, 2012</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Line 12"/>
          <p:cNvSpPr/>
          <p:nvPr/>
        </p:nvSpPr>
        <p:spPr>
          <a:xfrm>
            <a:off x="1600200" y="3200400"/>
            <a:ext cx="5943600" cy="0"/>
          </a:xfrm>
          <a:prstGeom prst="line">
            <a:avLst/>
          </a:prstGeom>
          <a:ln w="25560">
            <a:solidFill>
              <a:srgbClr val="777777"/>
            </a:solidFill>
            <a:miter/>
          </a:ln>
        </p:spPr>
        <p:style>
          <a:lnRef idx="0"/>
          <a:fillRef idx="0"/>
          <a:effectRef idx="0"/>
          <a:fontRef idx="minor"/>
        </p:style>
        <p:txBody>
          <a:bodyPr lIns="90000" rIns="90000" tIns="-46800" bIns="-46800" anchor="t">
            <a:noAutofit/>
          </a:bodyPr>
          <a:p>
            <a:endParaRPr b="0" lang="en-US" sz="2800" spc="-1" strike="noStrike">
              <a:solidFill>
                <a:srgbClr val="000066"/>
              </a:solidFill>
              <a:latin typeface="Book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838080"/>
            <a:ext cx="7620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ilding the Plane While Flying it</a:t>
            </a:r>
            <a:endParaRPr b="0" lang="en-US" sz="3200" spc="-1" strike="noStrike">
              <a:solidFill>
                <a:srgbClr val="000000"/>
              </a:solidFill>
              <a:latin typeface="Arial"/>
            </a:endParaRPr>
          </a:p>
        </p:txBody>
      </p:sp>
      <p:sp>
        <p:nvSpPr>
          <p:cNvPr id="53" name="PlaceHolder 2"/>
          <p:cNvSpPr>
            <a:spLocks noGrp="1"/>
          </p:cNvSpPr>
          <p:nvPr>
            <p:ph/>
          </p:nvPr>
        </p:nvSpPr>
        <p:spPr>
          <a:xfrm>
            <a:off x="456840" y="1828800"/>
            <a:ext cx="7924680" cy="4495680"/>
          </a:xfrm>
          <a:prstGeom prst="rect">
            <a:avLst/>
          </a:prstGeom>
          <a:noFill/>
          <a:ln w="0">
            <a:noFill/>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is the right approach for USG, we can’t afford to wait.</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defining the approach, considerable redesign from a policy and performance perspective.</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G effort, led by NIST, to help accelerate a Reference Architecture (RA) and standards are critical to ensuring that we don’t get left with a short term approach in the long term.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aling with solutions on multiple time scales and stretching existing policy approaches into new areas. </a:t>
            </a:r>
            <a:endParaRPr b="0" lang="en-US" sz="2200" spc="-1" strike="noStrike">
              <a:solidFill>
                <a:srgbClr val="000000"/>
              </a:solidFill>
              <a:latin typeface="Arial"/>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ndards that support interoperability, portability, and security--developed with input from stakeholders, and in an open and transparent process--will help movement to the cloud.</a:t>
            </a:r>
            <a:endParaRPr b="0" lang="en-US" sz="22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990720"/>
            <a:ext cx="7696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ustry-developed, Internationally  Recognized</a:t>
            </a:r>
            <a:r>
              <a:rPr b="0" lang="en-US" sz="3200" spc="-1" strike="noStrike">
                <a:solidFill>
                  <a:srgbClr val="000000"/>
                </a:solidFill>
                <a:latin typeface="Arial"/>
              </a:rPr>
              <a:t> </a:t>
            </a:r>
            <a:r>
              <a:rPr b="1" lang="en-US" sz="3200" spc="-1" strike="noStrike">
                <a:solidFill>
                  <a:srgbClr val="000000"/>
                </a:solidFill>
                <a:latin typeface="Arial"/>
              </a:rPr>
              <a:t>is Key</a:t>
            </a:r>
            <a:endParaRPr b="0" lang="en-US" sz="3200" spc="-1" strike="noStrike">
              <a:solidFill>
                <a:srgbClr val="000000"/>
              </a:solidFill>
              <a:latin typeface="Arial"/>
            </a:endParaRPr>
          </a:p>
        </p:txBody>
      </p:sp>
      <p:sp>
        <p:nvSpPr>
          <p:cNvPr id="55" name="PlaceHolder 2"/>
          <p:cNvSpPr>
            <a:spLocks noGrp="1"/>
          </p:cNvSpPr>
          <p:nvPr>
            <p:ph/>
          </p:nvPr>
        </p:nvSpPr>
        <p:spPr>
          <a:xfrm>
            <a:off x="456840" y="2209680"/>
            <a:ext cx="7620120" cy="426744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blic-private cooperation key to single RA and set of standard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companies to innovate and thrive in the cloud space, standards are best developed, managed and evolved in industry-led, open consortium.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G and NIST need to ensure that the role of government is as convener, and/or contributor, but not a creator.   </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ly, efforts around SLAs must remain industry-driv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914400"/>
            <a:ext cx="75438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 and Standards Must Balance Common Frameworks and Innovation</a:t>
            </a:r>
            <a:endParaRPr b="0" lang="en-US" sz="3200" spc="-1" strike="noStrike">
              <a:solidFill>
                <a:srgbClr val="000000"/>
              </a:solidFill>
              <a:latin typeface="Arial"/>
            </a:endParaRPr>
          </a:p>
        </p:txBody>
      </p:sp>
      <p:sp>
        <p:nvSpPr>
          <p:cNvPr id="57" name="PlaceHolder 2"/>
          <p:cNvSpPr>
            <a:spLocks noGrp="1"/>
          </p:cNvSpPr>
          <p:nvPr>
            <p:ph/>
          </p:nvPr>
        </p:nvSpPr>
        <p:spPr>
          <a:xfrm>
            <a:off x="457200" y="2057040"/>
            <a:ext cx="77724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frameworks and open standards are critical, but this must be balanced with the objective of not creating undue constraints on innovation or market dynamic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particularly true with respect to data portability, as the definition of portability is less clear, as well as the details of how this can be achieved while providing for maximum innovation and customization of solu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differentiate products and services through developing and implementing new features and func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requirements of portability are too broadly interpreted, there might be pressure to assure that there is a unitary and global feature set and functional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59"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ontinue to Advance and Promote a Cloud First Policy</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1:  </a:t>
            </a:r>
            <a:r>
              <a:rPr b="0" lang="en-US" sz="2400" spc="-1" strike="noStrike">
                <a:solidFill>
                  <a:srgbClr val="000000"/>
                </a:solidFill>
                <a:latin typeface="Arial"/>
              </a:rPr>
              <a:t>USG should continue to promote the “Cloud First” policy as an integral part of the overall strategy to reduce the cost of government, improve the return on investment of our IT spend and improve citizen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1"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 #2:   </a:t>
            </a:r>
            <a:r>
              <a:rPr b="0" lang="en-US" sz="2400" spc="-1" strike="noStrike">
                <a:solidFill>
                  <a:srgbClr val="000000"/>
                </a:solidFill>
                <a:latin typeface="Arial"/>
              </a:rPr>
              <a:t>OMB and GSA should work together and with industry to review and recommend changes to capital planning and procurement regulations that might hinder the rapid acquisition of innovative technologies by governme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the current OMB Exhibit 300 process to ensure its relevancy in today’s world of on-demand compu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914040"/>
            <a:ext cx="7543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3" name="PlaceHolder 2"/>
          <p:cNvSpPr>
            <a:spLocks noGrp="1"/>
          </p:cNvSpPr>
          <p:nvPr>
            <p:ph/>
          </p:nvPr>
        </p:nvSpPr>
        <p:spPr>
          <a:xfrm>
            <a:off x="457200" y="1752480"/>
            <a:ext cx="7848720" cy="4724640"/>
          </a:xfrm>
          <a:prstGeom prst="rect">
            <a:avLst/>
          </a:prstGeom>
          <a:noFill/>
          <a:ln w="0">
            <a:noFill/>
          </a:ln>
        </p:spPr>
        <p:txBody>
          <a:bodyPr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Culture and Acquisition Models Must Keep Pace with Technology (Cont.)</a:t>
            </a:r>
            <a:endParaRPr b="0" lang="en-US" sz="2400" spc="-1" strike="noStrike">
              <a:solidFill>
                <a:srgbClr val="000000"/>
              </a:solidFill>
              <a:latin typeface="Arial"/>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3: </a:t>
            </a:r>
            <a:r>
              <a:rPr b="0" lang="en-US" sz="2400" spc="-1" strike="noStrike">
                <a:solidFill>
                  <a:srgbClr val="000000"/>
                </a:solidFill>
                <a:latin typeface="Arial"/>
              </a:rPr>
              <a:t> Promote changes to the federal acquisition process and culture that will keep pace with evolving technology.  Key to this are issues raised in the original 25 Point Implementation Plan that have not yet been fully addressed:</a:t>
            </a:r>
            <a:endParaRPr b="0" lang="en-US" sz="24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deploy a cadre of specialized IT acquisition professional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and share IT acquisition best practices.</a:t>
            </a:r>
            <a:endParaRPr b="0" lang="en-US" sz="2200" spc="-1" strike="noStrike">
              <a:solidFill>
                <a:srgbClr val="000000"/>
              </a:solidFill>
              <a:latin typeface="Arial"/>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and issue contracting guidance and templates that support modular IT develop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5"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Lower the Barrier of Market Entry for Small Businesse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4:</a:t>
            </a:r>
            <a:r>
              <a:rPr b="0" lang="en-US" sz="2400" spc="-1" strike="noStrike">
                <a:solidFill>
                  <a:srgbClr val="000000"/>
                </a:solidFill>
                <a:latin typeface="Arial"/>
              </a:rPr>
              <a:t>  Lower the barrier of entry for small innovative IT companies and make the FedRAMP open, fair and accessible to all CSPs by fully implementing Point 16 of the 25 Point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914400"/>
            <a:ext cx="7543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IA – Public Sector Innovation Group (PSIG) Recommendations for USG</a:t>
            </a:r>
            <a:endParaRPr b="0" lang="en-US" sz="2800" spc="-1" strike="noStrike">
              <a:solidFill>
                <a:srgbClr val="000000"/>
              </a:solidFill>
              <a:latin typeface="Arial"/>
            </a:endParaRPr>
          </a:p>
        </p:txBody>
      </p:sp>
      <p:sp>
        <p:nvSpPr>
          <p:cNvPr id="67" name="PlaceHolder 2"/>
          <p:cNvSpPr>
            <a:spLocks noGrp="1"/>
          </p:cNvSpPr>
          <p:nvPr>
            <p:ph/>
          </p:nvPr>
        </p:nvSpPr>
        <p:spPr>
          <a:xfrm>
            <a:off x="609120" y="2057040"/>
            <a:ext cx="7696440" cy="42670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velop a Comprehensive Federal IT Strategy Roadmap</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IA Recommendation #5:  </a:t>
            </a:r>
            <a:r>
              <a:rPr b="0" lang="en-US" sz="2400" spc="-1" strike="noStrike">
                <a:solidFill>
                  <a:srgbClr val="000000"/>
                </a:solidFill>
                <a:latin typeface="Arial"/>
              </a:rPr>
              <a:t>OMB should review, revise and consolidate the policy memorandums and implementing guidance associated with the Cloud First, Shared First/Shared Services Strategy, and the FDCCI, into a single </a:t>
            </a:r>
            <a:r>
              <a:rPr b="0" i="1" lang="en-US" sz="2400" spc="-1" strike="noStrike">
                <a:solidFill>
                  <a:srgbClr val="000000"/>
                </a:solidFill>
                <a:latin typeface="Arial"/>
              </a:rPr>
              <a:t>Federal IT Strategy Road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6T17:45:52Z</dcterms:created>
  <dc:creator>Kevin Custer</dc:creator>
  <dc:description/>
  <dc:language>en-US</dc:language>
  <cp:lastModifiedBy>Laura Greenback</cp:lastModifiedBy>
  <cp:lastPrinted>2012-06-04T21:27:03Z</cp:lastPrinted>
  <dcterms:modified xsi:type="dcterms:W3CDTF">2012-06-12T20:29:23Z</dcterms:modified>
  <cp:revision>80</cp:revision>
  <dc:subject/>
  <dc:title>No Slide Title</dc:title>
</cp:coreProperties>
</file>